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C71-45A3-46BF-AF95-C2A56D17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625-7B04-48ED-919B-7064AA01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3DB-D2F5-4AE5-9BE7-D67D7021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7E7-9D73-4FCA-86D7-4F2D03FA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1B90-DAEE-4E23-8E6D-360042F3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976A-A256-4C51-B5D6-81207AE4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F9D4-FD09-4F05-9728-12DB631F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7A90-ADCE-458C-84D9-24816758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7F6C-2D77-403D-9632-7A113FE2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876C-0610-4C3A-9820-50FB4388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B457-F913-47E0-8B9A-DBEB869B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16B-65BE-4950-BF28-AD9184EB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E1A2-4D5E-44D1-B317-A0CC54FD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F700-F1B3-444B-AA28-798C7D03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1138-55D8-4159-933F-E503CEBF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5CE2-C58A-4B51-A686-B67BDA46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3217-CDDB-4C86-AA7F-ACDC8E33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89D-57C6-41D2-87B1-1DD7CF6F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237-76DD-47E7-90BD-7D021EB6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52B-1267-46B7-B524-C000C38B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8E4-CA88-4279-AB6B-80319EC7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46B-FB89-4948-9C50-E3744F41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411-A875-456E-8DF3-8E7BF2B8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C1E-518E-4115-9DC9-DA038657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7731-A294-4321-95F4-99F08E2A660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97AD-F066-4B10-A072-F95DC6B204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35FC-97F2-4824-9FCB-CF517F2CA10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198E-41B7-4009-BE85-BB148D983A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Forms: An Interactive Forms Generat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sters Candidate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Nolan W. Whitak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y Adviso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Dr. Raphael Fink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mittee Memb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Dr. Jaromczy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Dr. Se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B804-036C-42CD-BC1D-947E58FFC89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EB24EA3-62B7-43AE-83B4-2775CEE630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11280" y="1881360"/>
            <a:ext cx="7924680" cy="4070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jective-C is a object-oriented extension to the C programming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y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ynamis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ynamic Typing, Binding, Loading         (self modifying code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ssag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ceptions, Nil-Targeted Messages  (Responder Chain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mory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ference Counts, Auto-release Pool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4A5-5CFF-4297-B0E3-B7136997E8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4268E-AB24-45A1-81B0-AEE96B9500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79640" y="3033720"/>
            <a:ext cx="7924680" cy="2989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formance Against Go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al: Learn the Objective-C langu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ive-C is a object-oriented extension to the C programming langu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76000" y="3141360"/>
            <a:ext cx="80010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ual: SUCCESS learning usage o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mory Management using Reference Cou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tain / relea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 Messaging and Key-Value Class Encod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foo setValue:fooVal  forKey:keyName 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A63-1680-4893-B3EE-228C152640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C5FE1-54FC-4475-BE5D-9B964D27C2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42920" y="3465360"/>
            <a:ext cx="7925040" cy="2592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formance Against Go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al: Learn the Cocoa Framewor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le’s official Mac OS X software development framework based on NeXTStep/OpenSte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9280" y="2997000"/>
            <a:ext cx="8001000" cy="27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ual: SU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ined framework experienc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tructing Key-View Coding class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tructing custom Views and controls (widgets) programmatically and via the GUI InterfaceBuild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tra-application communication via notifications and direct messa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B0D5-D32F-491D-874E-BC643C6663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57964-0333-41EE-B447-F3BD225F8E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42920" y="2816280"/>
            <a:ext cx="7925040" cy="3313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formance Against Go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al: Learn the Cocoa Framework (con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76000" y="2241360"/>
            <a:ext cx="800100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ual: SU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coa is a complex and evolving development framework with few references avail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ined framework experienc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-3834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ing delegates instead of sub-classing objec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42680" indent="-37548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legates are helper objects for a class inst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42680" indent="-37548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legates allow a developer to modify the behavior of an object without sub-class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42680" indent="-37548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legates are sent messages when to the parent object’s status changes and queried for information as nee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2DB-5691-4042-85AC-CADBFFA6A4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B970E-B259-495C-8E42-0EF1F6DD77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42920" y="2816280"/>
            <a:ext cx="7925040" cy="3313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formance Against Go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al: Learn the Cocoa Framework (con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76000" y="2241360"/>
            <a:ext cx="800100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ual: SU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ined framework experienc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ing Cocoa memory management Autorelease Poo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ing Cocoa’s NSDocument architecture for document-based applica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ing Cocoa’s abstract data typ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ances of NSDictionary and NSArray are the primary internal container data structures for XForm docu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05B-C413-4ED4-82CC-21CC9ACA16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49A34-7577-424B-B3A6-389AA8BC80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2205000"/>
            <a:ext cx="7925040" cy="388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formance Against Go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al: Model-View-Controller Design Patter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6000" y="2313000"/>
            <a:ext cx="80010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835200" indent="-4014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ign patter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“simple and elegant solutions to specific problems in object oriented software design.”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VC is a collection three or more classes separating the application’s data model, user interface, and control struc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s code re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0600" indent="-363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decoupling the user interface and data model from an application’s control structures, proponents of MVC argue that both the data model and GUI classes become better candidates for re-use as is or with little modific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097-2117-4BC7-B1EB-7E6CFF43DB1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8BC1C-3ECA-4092-BC9E-BA749B577D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1773360"/>
            <a:ext cx="7925040" cy="4211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formance Against Go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76000" y="1844280"/>
            <a:ext cx="80010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ual: SUCCESS implemented a pure MVC design without mixing model, view, or controller cla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el Classes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FForm, XFElemen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Classes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FPageView, XFElementView, XFToolView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r Class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FDocument, XFPropertyControl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81C-C962-43AD-AB06-DDD9C2CF0EF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A000A-2466-4D80-9677-9CBF46CB9E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2457360"/>
            <a:ext cx="7925040" cy="3672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formance Against Go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94560" indent="-3945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al: Explore topics related to visual code generation and desig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76000" y="2457000"/>
            <a:ext cx="8001000" cy="29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70800" indent="-370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ual: SUCCES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-3445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r Experi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030680" indent="-31212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ser Interface and Presentation Issu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030680" indent="-31212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ustom Control and Tool Pallet Desig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030680" indent="-31212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ge Layout &amp; Pagination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337760" indent="-3060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xed Media Issues:  Paper  vs  Web  vs  Computer Displ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-3445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lication Interoperabil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030680" indent="-31212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le Format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337760" indent="-3060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ML   vs  Proprietary Forma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030680" indent="-31212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arget Platform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337760" indent="-3060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orting multiple platforms with mixed feature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-3445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-3445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0EA-C4D0-46E9-9AA6-BC1110B22D1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E98C8-9742-40AF-8D5A-E135612770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XFor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736640"/>
            <a:ext cx="7925040" cy="4392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6360" y="2457360"/>
            <a:ext cx="800100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xed Media Design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Verdana"/>
              </a:rPr>
              <a:t>Adobe InDesign CS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icrosoft Off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rd and PowerPoint were can generate web pages from a native document but were not created to be mixed media design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Media Form 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Paper: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etForm, FormFlow, Adobe Acrob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Application: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lade, InterfaceBuilder, Visual Stud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Web: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cromedia Studio, Visual InterDe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lated work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losed &amp; open sour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E2C-AD4C-4D91-878B-46B0BCBA19D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53307-6A19-46A6-8B4D-C7D76CAA45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y Lessons For Cocoa Develop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592280"/>
            <a:ext cx="7924680" cy="4502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92000" y="1699920"/>
            <a:ext cx="741528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Use GUI design tools like InterfaceBuil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signing an application interface programmatically is very time-consuming and tedious– don’t unless you must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Use Delegates When Poss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e the composition design pattern to create a class composed of framework class instances and delegate methods rather than subclas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Verdana"/>
              </a:rPr>
              <a:t>Let the framework do the work for yo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rameworks can be designed in a way that doesn’t significantly impact performance and yet provides incredible funcationality. Find a good one and use it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C270-3BF8-4A7E-9BCE-DCBF223923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D5ADB59-DD0B-4D15-BA38-8D2DDC6F40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Forms is a versatile, Mac OS X forms design tool that automatically generates forms in multiple media formats from a single design source.  XForms can generate traditional paper-based forms and/or a collection of web pages with code to collect and store all the data on the form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Forms is an application written in Objective-C using Apple’s Cocoa framework as a proof of concept application designed to be easily extendable to support any number of form output format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6A9-471B-4283-9071-56FBA0C493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43B44-AFFE-4270-8A11-25F5EFD34E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uestions &amp; Comm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Concer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F29D-48A4-46FF-9CC9-7FA8A9968DE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97A36EA-F955-4ED1-90D1-040F305B7A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XFor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59280" y="333360"/>
            <a:ext cx="5475240" cy="5686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27120" y="2327400"/>
            <a:ext cx="160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63640" y="2492280"/>
            <a:ext cx="16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015-BB19-47C6-9C5D-FA31695E977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F4E27-E3A5-4DAA-9EFF-F8BCEC6404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XFor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2567160" cy="426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8360" y="2023920"/>
            <a:ext cx="190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Properties Pa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940360" y="1773360"/>
            <a:ext cx="2554200" cy="426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68720" y="184464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96000" y="5373720"/>
            <a:ext cx="104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yna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427280" y="4581360"/>
            <a:ext cx="86508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508720" y="4436640"/>
            <a:ext cx="90000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92360" y="2384280"/>
            <a:ext cx="75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2383560"/>
            <a:ext cx="830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789360"/>
            <a:ext cx="1692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tributes for each form element are generated dynamically at run time as the element is selected from the form page vie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77080" y="189000"/>
            <a:ext cx="169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tributes for each form page were designed in Interface Builder at compile ti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6A4-F076-4B0E-B070-9880195EC0D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73CB5-53DC-41B8-8E4C-31D24D147E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XFor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79640" y="1952640"/>
            <a:ext cx="2136600" cy="3744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032360" y="1916280"/>
            <a:ext cx="453528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Tool Pallet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ynamically generated from a dictiona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rag and Drop Functiona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4B7-3869-4B5E-AFB6-2695F245D8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9541F-9D47-4FFC-BE5F-7B3EFD3ED9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7164720" cy="58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0A3-556B-47D9-895A-3B481FD951E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E99DF-E70F-40A8-A0EE-37F3543C3D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55520" y="1015920"/>
            <a:ext cx="4335480" cy="4884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29040" y="981000"/>
            <a:ext cx="4098960" cy="503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6D6-265A-45E8-B4F9-1002E5287BC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60FDC-E389-4E3D-AF6E-EC89264101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124000" y="225360"/>
            <a:ext cx="545796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5F6-D398-45AE-93FF-D454DDB7F11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56313-7264-45C3-B6F2-6C632E2831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ject Go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arn the Objective-C langua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arn Apple Computer’s Cocoa Software Development Framewo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ement a software project using the Model-View-Controller design pattern paradigm without mixing model, view, or controller cla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plore topics related to visual code generation and desig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A67-1D4E-47D9-8988-65325AF8EA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A1398-7EB6-4664-857D-9456CA1947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05-12-01T11:28:0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