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5CA-B8DD-48DC-9650-FD91E7EA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CE1-3DF4-4215-A360-41CBE6CC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691-D414-41A8-BCFD-9DB0AED8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DC2-E8EF-460A-8269-0FE2E399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8A1E-70E6-4FA9-9833-A784B478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DBA5-936D-4C9F-A427-DEEF1615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4B35-CA7B-44D2-AEE6-2B648670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F3B9-49CC-479A-8A1E-2F7D776F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3538-65EF-4A8B-AC56-E95B77DB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CDB1-B7BD-4BEC-998B-7AC679BF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F280-368F-4C78-AC60-9C36E16C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7A1-7B8D-4DB4-A36E-B6014FF2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C3C3-271A-4F05-9E3D-F6B98D39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7AE2-2075-416E-938F-C6773EDD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3140-2371-4657-AF43-7869D4BD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DDFF-B83F-48EC-BB60-5DF4A8B4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A326-F6E6-435B-B9CE-FAC70130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3C1-377A-4A85-A70B-ADEF43C0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B46-AD58-454D-A40F-FAC59DCB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AA8-0256-4D0A-B4A9-9D1A76A1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EBF-28CC-4186-A08B-DEE93F1B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831-4C41-4BFA-95F2-DC18B576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0D7-C3E0-488B-951D-561F8306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36D-D690-4906-9D88-1B495C52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4CF7-94AC-48E3-A3AA-9CB971F3C2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9C30-9B1B-4ED6-99D6-CD9570341ED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3781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ecff"/>
                </a:solidFill>
                <a:latin typeface="Arial"/>
              </a:rPr>
              <a:t>Design and implement an algorithm that, given a set of dimensioned quantities and units for the desired unknown, determines whether some multiplicative combination of the inputs can achieve the desired dimensions.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1240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aul Laurence Dunbar High Sch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th, Science and Technology Cent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udent, Solomon Alkhas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versity of Kentuck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partment of Computer Sci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fessor, Raphael Fink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320" y="5318280"/>
          <a:ext cx="304776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18280"/>
                    <a:ext cx="304776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04812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280" y="1676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AL- WORL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AVA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17524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43434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8600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33526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568656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cel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335268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or colo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uble Ag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ing Mode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568656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r.Faster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r.Stop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vantages to object-oriented languag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2895480"/>
            <a:ext cx="37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u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4267080"/>
            <a:ext cx="37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5562720"/>
            <a:ext cx="37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ing hierarc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eated 3 Obje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mensioned Flo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mensioned Float Gro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eated Algorithm to manipulate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36576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me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1828800"/>
            <a:ext cx="26672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ista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ime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Mas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781680" y="1752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17524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3352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381880" y="1752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534520" y="17524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352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2238480"/>
            <a:ext cx="152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rr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807160"/>
            <a:ext cx="25909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presents the wa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3857760"/>
            <a:ext cx="259092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known quantity of a known dim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00400" y="2895480"/>
            <a:ext cx="1828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11480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4343400"/>
            <a:ext cx="182880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8288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mensioned Fl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124080"/>
            <a:ext cx="26668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ista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ime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Mas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133360" y="3048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3048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6483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733560" y="3048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048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46483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3610080"/>
            <a:ext cx="2819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ouble float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3533760"/>
            <a:ext cx="152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rr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76920" y="34574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838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5562720"/>
            <a:ext cx="777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BASE UNITS [METERS, SECONDS, GRAMS]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8288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reating a Dimensioned Fl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3533760"/>
            <a:ext cx="6629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1. Convert given units into base units (if needed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610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2. Store the field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A car is traveling at an initial velocity of 3 meters/ second, accelerating 1 meter every second. If the car travels for 2.5 minutes, how far has it g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A car is traveling at an initial velocity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3 meters/ second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, accelerating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1 meter every second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. If the car travels for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2.5 minutes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, how far has it g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196524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Verdana"/>
              </a:rPr>
              <a:t>3 meters/ secon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24480" y="1981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 [1, -1, 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37180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Verdana"/>
              </a:rPr>
              <a:t>accelerating 1 meter/second</a:t>
            </a:r>
            <a:r>
              <a:rPr b="1" i="1" lang="en-US" sz="2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 [1, -2, 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5394240"/>
            <a:ext cx="2362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Verdana"/>
              </a:rPr>
              <a:t>2.5 minu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5410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50 [0, 1, 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72200" y="1676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27432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67652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534520" y="1676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676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7220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449568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34290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3452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5105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510552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34520" y="5105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105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5394240"/>
            <a:ext cx="251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Verdana"/>
              </a:rPr>
              <a:t>150 second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18288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ethods of a Dimensioned Fl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87964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1. Multiplic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341316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2. Divis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39466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3. Addi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447984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4. Subtrac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501336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5. Squar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5546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6. Extracting a square roo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al of my Resear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gorith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raphical User Interf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828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mensioned Float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3048120"/>
            <a:ext cx="35053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imension Float 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imension Float 2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imension Float 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133360" y="3048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3048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33720" y="46483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638680" y="3048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91320" y="3048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6483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4120" y="6248520"/>
            <a:ext cx="419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String instructions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3533760"/>
            <a:ext cx="152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rr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5105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486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182880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Roles of a Dimensioned Float Group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2819520"/>
            <a:ext cx="32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q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52480" y="356544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Instructions in Polish- Post- Fi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4800600"/>
            <a:ext cx="464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1 .5 times $2 divide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182880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Roles of a Dimensioned Float Group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2819520"/>
            <a:ext cx="32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q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356544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Instructions in Polish- Post- Fi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480060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first item in the dimensioned float grou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* second item in dimensioned float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828800"/>
            <a:ext cx="883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Creating a Dimensioned Float Group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52480" y="2819520"/>
            <a:ext cx="6782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. Place Dimensioned Floats into an arr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3962520"/>
            <a:ext cx="6782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2. Designate the Dimension, the wan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5089680"/>
            <a:ext cx="6782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3. Assign a string of instructions on how to solve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3120" y="1828800"/>
            <a:ext cx="8839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Solving using the Algorith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320" y="4267080"/>
            <a:ext cx="23619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SE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4495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4267080"/>
            <a:ext cx="2362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FG and 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86400" y="388584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86400" y="48006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3070080"/>
            <a:ext cx="29718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Solving by means of stored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730760"/>
            <a:ext cx="29718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Solving by recu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3120" y="1828800"/>
            <a:ext cx="8839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1. Solving using stored equatio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281952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. Dimensioned Float Group is created that stores requirements for that eq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52480" y="4403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2. At the end of data entry phase, the created DFG is compared against the programmed ones to see if any f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gorith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3120" y="1828800"/>
            <a:ext cx="8839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2. Solving using recurs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2819520"/>
            <a:ext cx="739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. Data entry ph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4403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2. Recursion from -3 to 3 until the product matches the units of the unknow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Graphical User Interfac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320" y="1981080"/>
            <a:ext cx="4114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57400" y="30481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502920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. Data Entry Ph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2438280"/>
            <a:ext cx="51055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343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69916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2. Evaluation Ph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6600" y="1523880"/>
            <a:ext cx="9077400" cy="31719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76320" y="2133720"/>
            <a:ext cx="4114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38480" y="2590920"/>
            <a:ext cx="510552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6600" y="1523880"/>
            <a:ext cx="9077400" cy="3171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0" y="1501920"/>
            <a:ext cx="9144000" cy="31939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2133720"/>
            <a:ext cx="41911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2590920"/>
            <a:ext cx="510552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2523960" y="2930400"/>
            <a:ext cx="4096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Question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Works Cite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1447920"/>
            <a:ext cx="83059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bp.com/liveassets/bp_internet/globalbp/STAGING/global_assets/im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s/E_S_2005/man_concentrating_180x144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ompu-tel.de/computer-shop/gross/6c29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car.kak.net/modules.php?file=article&amp;name=news&amp;op=modload&amp;sid=16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karpathos-car-rental.com/karpathos-car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tal_images/models/hyuntai_accent_big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otor-cross.ca/taxi-jun03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java.sun.com/docs/books/tutorial/java/concepts/objec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A car is traveling at an initial velocity of 3 meters/ second, accelerating 1 meter every second. If the car travels for 2.5 minutes, how far has it go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Acknowledgment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3120" y="1828800"/>
            <a:ext cx="6021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1. Mentor Rafael Fink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2666880"/>
            <a:ext cx="556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2. My Parent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3120" y="3443400"/>
            <a:ext cx="5792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Verdana"/>
              </a:rPr>
              <a:t>3. MSTC Progra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457200"/>
            <a:ext cx="853416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. Identify the Present Vari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800360"/>
            <a:ext cx="5988240" cy="17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Speed of 3 meters/secon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297180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Acceleration 1 meter/second</a:t>
            </a:r>
            <a:r>
              <a:rPr b="1" lang="en-US" sz="2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191120"/>
            <a:ext cx="556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ime of 2.5 minu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457200"/>
            <a:ext cx="853416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. Identify the Unknown Vari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3352680"/>
            <a:ext cx="480060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ista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828800"/>
            <a:ext cx="4267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... 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how far has it gone?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457200"/>
            <a:ext cx="853416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. Select an equation to fit the vari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2392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457200"/>
            <a:ext cx="8534160" cy="36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4. Solve for the unknown vari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800360"/>
            <a:ext cx="754380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vert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Base Units Meters, Seconds, Gram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30 m/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1 m/s</a:t>
            </a:r>
            <a:r>
              <a:rPr b="1" lang="en-US" sz="2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150 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5214960"/>
            <a:ext cx="7162920" cy="22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Plug and Chu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9200 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al of Software Develop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3429000"/>
            <a:ext cx="40388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4290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uman 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9625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uter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4648320"/>
            <a:ext cx="28954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171432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618240" y="5181480"/>
            <a:ext cx="925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7524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4197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Ja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048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bject Oriented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2438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3733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20:30:42Z</dcterms:created>
  <dc:creator>solomon</dc:creator>
  <dc:description/>
  <dc:language>en-US</dc:language>
  <cp:lastModifiedBy>solomon</cp:lastModifiedBy>
  <dcterms:modified xsi:type="dcterms:W3CDTF">2007-04-13T19:48:33Z</dcterms:modified>
  <cp:revision>19</cp:revision>
  <dc:subject/>
  <dc:title>Design and implement an algorithm that, given a set of dimensioned quantities  and units for the desired unknown, determines whether some multiplicative combination of the inputs can achieve the desired dimensions.</dc:title>
</cp:coreProperties>
</file>