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E84-CEBC-4CAB-92F0-50D3F0D5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601-B878-4F1F-8926-6CFD1E16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AE1-B983-4217-9266-1EEA67FD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2E3-8AF1-4ABF-A264-429EAC7C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BF3-66DB-4889-810C-E02519E5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3F0-EADB-42C2-9025-E0E9FE93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2B9-3D3E-4995-9472-4FC9936D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E4C-55D7-4162-ABCD-83EA3449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9CE-C4D9-4062-8E09-84288B3B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736-29D0-453C-84D2-B68388BE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AD1-B593-4D4F-9842-99B83E98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557-E326-480A-AE98-F2677EB6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9AE2-8B60-44C0-95C6-1D9020AA951D}" type="slidenum"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Design and Implementation of an Order-tracking System With .NET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 Marqui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dvisor: Dr. Raphael Fink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pril 21, 2005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ll in Remaining Informa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dd Art Descriptions for the Artist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dd T-Shirt Siz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t this point, the artist has a description and creates artwork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ccounting adds the order to its accounting softwar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Production knows to expect artwork on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Unicode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to have the shirts ready by th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Unicode MS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ffice manager orders shirts with the specified sizes and amoun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rtist Adds Artwork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rtwork Added to Orde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customer logs in at this point to view the status of the order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f he or she find the artwork acceptable, then he or she informs the sales representative, who marks the art approved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nce the art is approved, production expects separated artwork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production department begins printing when the separated artwork arrives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accounting department now has access to the order until the balance due is zero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Design Issues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(How I Developed OrderTracker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oftware Engineering comes into play  from initial concept to “finished” produc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 first half of this project involved designing the software in detail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sign is important for both creating and describing the software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Object Oriented Hypermedia Design Model (OOHDM)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Daniel Schwabe, Gustavo Rossi, Simone D. J. Barbosa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equirements Gather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tatement of Scope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Business Process Analysis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nceptual Desig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Use Cases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ontext Diagra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Navigational Desig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bstract Interface Desig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Page Flow Diagra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Page Pseudo-code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Requirements Gathering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Statement of Scope is a narrative description of the application (see document)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Each requirement is uniquely identified by a number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fter I finish the implementation stage, I match requirements to site pages, code-behind files, and other documents to ensure OrderTracker fulfills each requirement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#004.00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OrderTracker SHALL allow each entity associated with the company to view specific pieces of data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#004.01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Inside Sales reps SHALL be allowed to view: any order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iscuss Project History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monstrate OrderTracke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llustrate Design Issu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Business Proces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nalysis/Desig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how Implementation Decisio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iscuss Conclusion and Future Wor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23064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733560" y="304920"/>
            <a:ext cx="5181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Business Process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utside sales to inside sal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nside sales to accounting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ccounting to art and material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rt to Embroider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mbroidery to Digitizing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igitizing and materials to produc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roduction to shipping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hipping to accounting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onceptual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Use-Cases Exampl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1168560" indent="-711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Employee (Sales)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Customer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Contact Person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earch Customers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Order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Modify Order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View Order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earch Orders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ach use case maps to pseudo-code and eventually a page in the web applic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ontext Diagram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1303200"/>
            <a:ext cx="762012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Navigational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400800" cy="4894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6248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Use-case categoriza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Navigational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093760"/>
            <a:ext cx="8686800" cy="2845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4876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ain Administrator Menu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Navigational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86800" cy="4622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5943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anage Orders Submenu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Abstract Interface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ocus on page flow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seudo-code for pag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Login.aspx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display login options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when submit is clicked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query database to ensure username/password combination is valid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f valid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1992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redirect to Default.aspx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1992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how user error message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3" name="pageFlow" descr=""/>
          <p:cNvPicPr/>
          <p:nvPr/>
        </p:nvPicPr>
        <p:blipFill>
          <a:blip r:embed="rId2"/>
          <a:stretch/>
        </p:blipFill>
        <p:spPr>
          <a:xfrm>
            <a:off x="4557600" y="152280"/>
            <a:ext cx="4434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mplementation begins after the initial design is finishe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Begin implementation using pseudo-code and page flow diagram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Update design and refactor pages and code as necessary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evelopment Environmen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C running Windows XP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SDE (Microsoft SQL Server Desktop Engine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Visual Studio .NET 2003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IS (Internet Information Server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evelopment Languages/Tool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#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SP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DO.NET (SQL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TML/CS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C#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very page has a code-behind page written in C#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# tells ASP how to render web form controls on each pag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# is similar to C++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qlDataAdapter ad = new SqlDataAdapter( sql, cnOrderTrackerDB );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reach( DictionaryEntry prm in values )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d.SelectCommand.Parameters.Add( prm.Key.ToString(), prm.Value );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Project History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Hands On Originals, a screenprinting company in Lexington, asked me to create an order-tracking system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n online order-tracking system seemed like an idea on which I could base a Master’s Project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 wanted to apply Software Engineering practices to the project and learn to develop software for the web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ASP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SP stands for Active Server Pag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SP is similar to HTM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difference between ASP and HTML is that HTML is controlled on the client side while ASP is controlled on the server sid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SP has greater programmatic control compared to HTM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asp:Panel ID="pnlError" Runat="server" Visible="False"&gt;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asp:Label id="lblError" Runat="server" ForeColor="Red"&gt;&lt;/asp:Label&gt;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/asp:Panel&gt;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ASP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Handles Session Inform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 Major Methods to retain Session State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okies*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Hidden field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ssion State* and Application Stat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Query Strings*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* OrderTracker uses these methods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ADO.NET (SQL)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rderTracker’s core is the database system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yntax of ADO.NET is the same as SQ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DO.NET works with MSD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(Microsoft SQL Server Desktop Engine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eveloper builds tables within Visual Studio ID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eveloper creates users for the database at the command 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database itself is simply an mdf file stored on the serve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4304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Database Schema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88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Most tables involve the order number as the primary key and foreign key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ome tables have no relation to other tabl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ables only use NOT NULL constraint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8" name="erDiagram" descr=""/>
          <p:cNvPicPr/>
          <p:nvPr/>
        </p:nvPicPr>
        <p:blipFill>
          <a:blip r:embed="rId2"/>
          <a:stretch/>
        </p:blipFill>
        <p:spPr>
          <a:xfrm>
            <a:off x="152280" y="162000"/>
            <a:ext cx="425304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Project Outcom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rderTracker meet all specified requirement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Verified using requirements traceability matrix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ands On Originals is pleased with the progres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Learning Outcom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 learned .NET, Session Management, Developing for Window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Windows development environment proved difficult to set up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nce configured correctly, implementation was relatively simpl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SP 1.1 apparently requires cooki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xtensive test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rver load test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rver hard disk test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urity test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Usability test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mplement security to allow financial transactio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llow ASI and Embroidery order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rder Report/Statistics Gener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llow customer to upload artwor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essman, Robert S. Software Engineering: A Practitioner’s Approach. 6th Ed. New York: McGraw-Hill, 2005.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he OOHDM Wiki. June 18, 2004. Daniel Schwabe. January 23, 2005. &lt;http://www.oohdm.inf.puc-rio.br:8668/space/start&gt;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Yale Style Manual. 2002. Lynch and Horton. March 2, 2005. &lt;http://www.webstyleguide.com/&gt;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Brown, Keith. Security Headaches? Take ASP.NET 2.0! MSDN Magazine. June 2004. Microsoft. March 19, 2005. &lt;http://msdn.microsoft.com/msdnmag/issues/04/06/ASPNET20Security/&gt;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Thank You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Are there any questions?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Demonstration (offline)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 will now walk through the order creation process as OrderTracker handles i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ach slide shows a screenshot of the applicatio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 demonstration will not show all aspects of the application, so feel free to ask questions as we go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Logi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reate Custome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Manage Order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reate a New Orde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dd the Custome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2:20:36Z</dcterms:created>
  <dc:creator>Joseph Shmoe</dc:creator>
  <dc:description/>
  <dc:language>en-US</dc:language>
  <cp:lastModifiedBy>Joseph Shmoe</cp:lastModifiedBy>
  <dcterms:modified xsi:type="dcterms:W3CDTF">2005-04-21T01:33:38Z</dcterms:modified>
  <cp:revision>13</cp:revision>
  <dc:subject/>
  <dc:title>Design and Implementation of an Order-tracking System With .NET</dc:title>
</cp:coreProperties>
</file>