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77800"/>
            <a:ext cx="777096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776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7780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440" y="417780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0720" y="417780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563040"/>
            <a:ext cx="777096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776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777096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77800"/>
            <a:ext cx="777096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776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7780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440" y="417780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0720" y="4177800"/>
            <a:ext cx="250200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800" y="563040"/>
            <a:ext cx="7770960" cy="57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7760" y="417780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77800"/>
            <a:ext cx="7770960" cy="200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4960" cy="6737400"/>
            <a:chOff x="685800" y="117360"/>
            <a:chExt cx="8454960" cy="67374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3520" cy="225360"/>
            </a:xfrm>
            <a:prstGeom prst="roundRect">
              <a:avLst>
                <a:gd name="adj" fmla="val 704"/>
              </a:avLst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0800" cy="63720"/>
              <a:chOff x="4538520" y="6746760"/>
              <a:chExt cx="4330800" cy="6372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51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51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33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372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51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51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51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3360" cy="6372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78640" cy="760320"/>
            </a:xfrm>
            <a:prstGeom prst="roundRect">
              <a:avLst>
                <a:gd name="adj" fmla="val 208"/>
              </a:avLst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51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51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5160" cy="6372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"/>
          <p:cNvSpPr/>
          <p:nvPr/>
        </p:nvSpPr>
        <p:spPr>
          <a:xfrm>
            <a:off x="685800" y="6248520"/>
            <a:ext cx="1903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3124080" y="6248520"/>
            <a:ext cx="2894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751"/>
              </a:spcBef>
              <a:buClr>
                <a:srgbClr val="ffffff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StarBats" charset="2"/>
              <a:buChar char="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StarBats" charset="2"/>
              <a:buChar char="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531120"/>
            <a:ext cx="3503520" cy="325440"/>
          </a:xfrm>
          <a:prstGeom prst="roundRect">
            <a:avLst>
              <a:gd name="adj" fmla="val 481"/>
            </a:avLst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523880"/>
            <a:ext cx="8456760" cy="2589480"/>
          </a:xfrm>
          <a:prstGeom prst="roundRect">
            <a:avLst>
              <a:gd name="adj" fmla="val 60"/>
            </a:avLst>
          </a:prstGeom>
          <a:solidFill>
            <a:srgbClr val="33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80920" y="119160"/>
            <a:ext cx="651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349200"/>
            <a:ext cx="65160" cy="6372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576360"/>
            <a:ext cx="65160" cy="633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1035000"/>
            <a:ext cx="65160" cy="6372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1262160"/>
            <a:ext cx="65160" cy="6516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38520" y="6672240"/>
            <a:ext cx="4330800" cy="63360"/>
            <a:chOff x="4538520" y="6672240"/>
            <a:chExt cx="4330800" cy="63360"/>
          </a:xfrm>
        </p:grpSpPr>
        <p:sp>
          <p:nvSpPr>
            <p:cNvPr id="63" name=""/>
            <p:cNvSpPr/>
            <p:nvPr/>
          </p:nvSpPr>
          <p:spPr>
            <a:xfrm>
              <a:off x="4538520" y="6672240"/>
              <a:ext cx="651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8360" y="6672240"/>
              <a:ext cx="651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57840" y="6672240"/>
              <a:ext cx="633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67320" y="6672240"/>
              <a:ext cx="6372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77160" y="6672240"/>
              <a:ext cx="651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86640" y="6672240"/>
              <a:ext cx="651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196120" y="6672240"/>
              <a:ext cx="651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05960" y="6672240"/>
              <a:ext cx="633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80920" y="806400"/>
            <a:ext cx="65160" cy="61920"/>
          </a:xfrm>
          <a:prstGeom prst="ellipse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33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40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825200"/>
            <a:ext cx="7770960" cy="20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MS Sans Serif"/>
              </a:rPr>
              <a:t>Unix Administration Tools on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MS Sans Serif"/>
              </a:rPr>
              <a:t>Windows NT:  Sat, Pulsar, and Rd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4114800"/>
            <a:ext cx="639936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ristopher R. Do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iversity of Kentuc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Pul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ulsar presenter looks and feels exactly like the Unix versio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 monitors can talk to a Unix presenter and Unix monitors can talk to an NT present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Pul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84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649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ing monito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bad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is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th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d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uls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w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spcBef>
                <a:spcPts val="414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8440" cy="434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nworking monito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mail and rootma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aemon and pro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exc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printers and printque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xhost and remote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oll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etpri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414"/>
              </a:spcBef>
              <a:buClr>
                <a:srgbClr val="ffffff"/>
              </a:buClr>
              <a:buSzPct val="99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ot, ftp, home, suid, and readon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Rd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49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0840" indent="-3308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dist uses system-specific calls to watch the filesy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was able to get rdist to compile, but I could not get the client to conn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0840" indent="-3308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also could not find a secure method of allowing updates, because the standard Unix authentication methods (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/etc/rhost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etc.) do not work.  Ssh also does not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Rd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ead of using Rdist, I use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mbclie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program from the Samba suite to attach to the administrative share on a Windows box and copy f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 administrator could also use the Linux kernel</a:t>
            </a:r>
            <a:r>
              <a:rPr b="0" lang="en-GB" sz="32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 smbfs filesystem to mount the NT host</a:t>
            </a:r>
            <a:r>
              <a:rPr b="0" lang="en-GB" sz="32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 drive as a filesystem and then use rdist to distribute f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S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rting Sat would have been much more difficult without Cygwin, a free package from Cygnus Corpo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ygwin consists of two parts:  a dynamic-link library that implements many Unix calls as Win32 calls, and a set of Unix-like library fi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S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4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th Cygwin, NT appears to the programmer to be a (weird) version of Unix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ygwin does have a few problem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ext file format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se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usable debug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ugs in Cygwin D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S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 portion of Sat ported fairly easily under Cygwin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erl reports had to be changed to run on N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wrote additional utilities to make changes to the NT user database and the NT TCP/IP sett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Pul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presenter required very few chan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monitors only needed different options on the commands they ca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monitors have no analogue under Windo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4440" indent="-3344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monitors relied upon commands not present in NT, so I found or wrote replacement too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Pul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79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vent Log monitor was difficult to por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vent Logs in NT are binary files; the only correct way to read them is through the published AP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had to call one function to get an event structure, then link in the appropriate library and call another function to get the locale-specific message string, and then call several other functions to format the final mes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Puls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4440" indent="-33444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PU monitor was extremely difficult to po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6120" indent="-27828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is no </a:t>
            </a:r>
            <a:r>
              <a:rPr b="0" lang="en-GB" sz="2800" spc="-1" strike="noStrike">
                <a:solidFill>
                  <a:srgbClr val="ffffff"/>
                </a:solidFill>
                <a:latin typeface="StarBats"/>
                <a:ea typeface="StarBats"/>
              </a:rPr>
              <a:t>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ptime</a:t>
            </a:r>
            <a:r>
              <a:rPr b="0" lang="en-GB" sz="28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command for NT that gives a CPU loa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6120" indent="-27828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kernel updates many performance counters, but it does not keep a running averag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6120" indent="-27828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APIs and structures for obtaining performance data are extremely compl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adapted Unix system-administration tools to run on Microsoft Windows NT 4.0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th one exception, the new tool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e fully funct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ook and feel like the Unix too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-operate with the Unix too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Rd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was able to get Rdist to compile, but there is no method shipped with NT (such as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sh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rexec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to allow an Rdist client to remotely invoke the Rdist server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was able to get a port of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sh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running, but only using password authentication.  Rdist requires non-password authent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Implementation of Rdis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 modified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sh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ource code to allow RSA key authentication, but 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sh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erver always runs as the same user regardless of who logs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rdist client would loop and never connect, and the debugging messages provided no information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lsar is useful for integrating NT hosts into an existing Unix net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erformance monitoring tools shipped with NT allow an administrator to monitor much finer detail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561"/>
              </a:spcBef>
              <a:buClr>
                <a:srgbClr val="ffffff"/>
              </a:buClr>
              <a:buSzPct val="85000"/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lsar gives an overview of  a host's health that is much easier to underst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0">
              <a:spcBef>
                <a:spcPts val="56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t brings a certain amount of scripting power that NT does not hav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en-GB" sz="28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 domain system allows for centralized account administr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dist is not useful for installing most applications on NT, because the necessary changes will not be made to the registry.  Smbclient distributes simple files nicel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Too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t is a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stem-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ministration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ol for administering a group of ho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t consists of a distributed database and report programs that configure hosts based on the information in the datab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at is written primarily in C, although the reports are written in Per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Too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67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lsa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lsar is a monitoring t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lsar consists of a presenter console and many </a:t>
            </a:r>
            <a:r>
              <a:rPr b="0" lang="en-GB" sz="2800" spc="-1" strike="noStrike">
                <a:solidFill>
                  <a:srgbClr val="ffffff"/>
                </a:solidFill>
                <a:latin typeface="StarBats"/>
                <a:ea typeface="StarBats"/>
              </a:rPr>
              <a:t>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lse monitors</a:t>
            </a:r>
            <a:r>
              <a:rPr b="0" lang="en-GB" sz="2800" spc="-1" strike="noStrike">
                <a:solidFill>
                  <a:srgbClr val="ffffff"/>
                </a:solidFill>
                <a:latin typeface="StarBats"/>
                <a:ea typeface="StarBats"/>
              </a:rPr>
              <a:t>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hat periodically run and report information to the pres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ther administrators may run secondary presenters that display the same information as the primary prese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lsar is written primarily in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Too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di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dist is a widely used tool that allows administrators to maintain identical copies of files over multiple ho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dist is written primarily in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 was unable to get a functional Rdist running on Windows 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Comparing NT and Unix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T and Unix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re both preemptive multitasking operating systems with memory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ave completely dissimilar histo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3680" indent="-28116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ffer in design and configuration philosoph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56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en-GB" sz="24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 graphical focus versus Unix</a:t>
            </a:r>
            <a:r>
              <a:rPr b="0" lang="en-GB" sz="24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 command foc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56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en-GB" sz="24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 Registry versus Unix</a:t>
            </a:r>
            <a:r>
              <a:rPr b="0" lang="en-GB" sz="24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 text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56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en-GB" sz="24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 Event Log versus Unix</a:t>
            </a:r>
            <a:r>
              <a:rPr b="0" lang="en-GB" sz="2400" spc="-1" strike="noStrike">
                <a:solidFill>
                  <a:srgbClr val="ffffff"/>
                </a:solidFill>
                <a:latin typeface="StarBats"/>
                <a:ea typeface="StarBats"/>
              </a:rPr>
              <a:t>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 log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S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abdelete, tabdiff, tabedit, tabinsert, tabmod, tabread, relmod, schedit, btabread, sal, mksalhead, defobj,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ostinf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programs work the same as the Unix ver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satd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program is not multithread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changes were not in the C source, but in the supporting program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S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sers re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s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passw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group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s, then modifies the local user database to add or delete us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sts re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reates these files: 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hosts, hostinfo, distaliasfile, netgroup, ethe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63040"/>
            <a:ext cx="7770960" cy="12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The new S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2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td relati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rrectly updates the 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/etc/mot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file.  An administrator could put a program in the All Users Startup folder to display this file when a user logs 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buClr>
                <a:srgbClr val="ffffff"/>
              </a:buClr>
              <a:buFont typeface="StarBats" charset="2"/>
              <a:buChar char="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unts, Printers, and Sudo relat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spcBef>
                <a:spcPts val="649"/>
              </a:spcBef>
              <a:buClr>
                <a:srgbClr val="ffffff"/>
              </a:buClr>
              <a:buFont typeface="StarBats" charset="2"/>
              <a:buChar char="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ports do nothing and exit clean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00:48:50Z</dcterms:created>
  <dc:creator>Christopher R. Dotson</dc:creator>
  <dc:description/>
  <dc:language>en-US</dc:language>
  <cp:lastModifiedBy> </cp:lastModifiedBy>
  <cp:lastPrinted>2000-06-20T14:18:29Z</cp:lastPrinted>
  <cp:revision>0</cp:revision>
  <dc:subject/>
  <dc:title>Unix Administration Tools on  Windows NT:  Sat, Pulsar, and Rdi</dc:title>
</cp:coreProperties>
</file>