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0246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0B7-1BB8-4A3F-90BC-74E4058F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63E-6496-427A-B51C-855E15E9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562-7D30-4DDE-B17A-05387B46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4BB-A6FA-4288-A0D4-B70C0E1A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250-9342-421D-B57B-DAB11178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ACA-1A56-4449-B56B-BDFEC1B7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B940-0637-407B-9751-07CEDF02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A1A-B167-45C3-9C5D-A606E37C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110-D6AB-4589-B5C8-A2B81A8A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F40-84EA-4549-BB5E-3DCDFC84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AAE4-4EB9-4B99-9EF8-22143996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9F45-57D6-4BA4-A91B-4D51E2B9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EBE4-BAE7-4F4C-9399-96606F7E3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FS Version 3 for Lin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le type varieties now include NF3CHR and NF3BLK for special files. Attributes for these types include sub-fields for UNIX major and minor device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FS Version 3 specification includes the following new procedure call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KNOD: create special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SSTAT: return dynamic information about a file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990360" y="3045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nges from NFS V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SINFO: returns static information about a file system and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: provides access-permission checking on the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CONF: returns POSIX configuration about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DIRPLUS: Return file handles and attributes of directory e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-handle ca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rver side maintains a file-handle cac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unt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fsd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unt and NFS service daemons, use a copy of this cac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implementation caches the created file-handles in a doubly-linked li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porates the NFS V3 file hand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nt Version 3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unt Version 3 protocol specification meets the needs of the NFS Version 3 protoc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unt root file handle is of the same type as an NFS Version 3 file han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unt protocol consists of the following cal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LL: do no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NT: create a mount-list entry for the given directory path; compute and return the initial file hand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P: return a list of remotely mounted fil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NT: remove the mount-list entry for a directory that was previously mounted using a MNT c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NTALL: remove all mount entries for a client whose previous MNT calls have been record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-level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implementation supports a simple interactive application inte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nterface has a master mount client menu, which invokes the five mount procedure c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N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user chooses the MNT option and if the MNT succeeds, the server returns the root file hand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ient starts a sub-menu with the following op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AT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user chooses the LOOKUP option and if the LOOKUP succeeds, the client launches another sub-menu, which includes all the remaining NFS c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at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n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dir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co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1: (application-space) NFS client interaction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unt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fs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287360" y="758880"/>
          <a:ext cx="6473880" cy="41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758880"/>
                    <a:ext cx="6473880" cy="41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NFS V 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nt Version 3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Imple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un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implementa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unt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mount daemon, supports Mount Version 3 protocol procedure c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unt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s in the application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un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a directory path as input and returns the corresponding root file hand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es a search path to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s the pseudo-inod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s a new file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s to a structure containing the pseudo-inode number and the hashed search pa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result along with the status of the 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un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a list of remotely mounted fil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mt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, which lists the remotely mounted file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ies the information onto a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result along with the sta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un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s the mount list entry for the directory that was previously mou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the mount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es for the given client and directory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entry exists, deletes the entry, saves the modified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status of the 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un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N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s all the mount entries for a client whose previous MNT calls have been recor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es the mount list for a particular cli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s all entries corresponding to that clie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s the status of the 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fs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fs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supports NFS Version 3 procedure c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fs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s in the application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AT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the file attributes corresponding to a given file hand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es the file-handle cache for the file hand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exists, obtains the path corresponding to the file hand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this path to obtain the file attributes through an lstat system 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result along with the status of the ca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fs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1536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the directory file handle and the name of the file to compute and return a file handl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s the search path to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s pseudo-inode number based on the inode number of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s a file handle that refers to a structure containing the pseudo-inode number and the hashed search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es the file handle and obtains the attributes of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new file handle, the file attributes, the directory attributes and the sta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fs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9250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DIR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s the directory contents of a particular directory to a greater extent than READD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es the directory file hand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s the directory path and applies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st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call to verify that the directory is val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directory is val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es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end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ystem call and reads the entries using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add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n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s the file handle and obtains the file attribu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result along with the status of the 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fs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KN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lightly impleme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s special files given the directory file handle and the name to be associated with the special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file types are NF3CHR, NF3BLK, NF3SOCK and NF3FIF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s the path corresponding to the file handle, applies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st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ystem call to verify that the path ex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s the file if the path does no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status of the call along with the attributes of the new f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nel-spac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NFS Version 3 client implementation runs in the Linux kern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integrated my NFS Version 3 client code with the existing VFS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added the NFS Version 3 calls at the appropriate positions in the NFS file system l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enhanced the mount program to conform with the Mount Version 3 protocol and NFS Version 3 protocol specif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F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Microsystem’s NFS protocol provides transparent remote access to shared file systems across net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FS rests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Procedure Call (RPC) built on top of External Data Representation (XD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e 2: (kernel-space) NFS client interaction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unt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fsd.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76280" y="687240"/>
          <a:ext cx="6367680" cy="455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6280" y="687240"/>
                    <a:ext cx="636768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-level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setu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machines (Linux 2.2.10, 100 MHz Pentium) and a Sun SPARC machine (SunOS 5.7, 170 MHz sun4m) on an Ethernet LAN (10 Mbp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ested the application-space clien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n’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unt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fs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 SPAR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unt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fs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a Linux mach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lculated the time before and after execution of each 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ormance of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fs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unt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mparable to the Sun server performance for most c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-level 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90720" y="762120"/>
          <a:ext cx="664668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2120"/>
                    <a:ext cx="66466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828800" y="6019920"/>
          <a:ext cx="5487840" cy="17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6019920"/>
                    <a:ext cx="548784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-level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nux machine (version 2.2.12-20, 400 MHz Pentiu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ran tests to test and compare the function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NFS Version 3 mounted file syste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NFS Version 2 mounted file syste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an ext2 mounted fil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used the loopback address to run the machine as an NFS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used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 to calcu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ime taken to mount these file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taken to run simple command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the mounted file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-level 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685800"/>
          <a:ext cx="7726320" cy="246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72632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219320" y="3124080"/>
          <a:ext cx="7010280" cy="44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124080"/>
                    <a:ext cx="70102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85800" y="3733920"/>
          <a:ext cx="7696080" cy="1865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733920"/>
                    <a:ext cx="769608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71600" y="5638680"/>
          <a:ext cx="6781680" cy="4302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5638680"/>
                    <a:ext cx="67816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85800" y="685800"/>
          <a:ext cx="7332840" cy="172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33284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295280" y="2514600"/>
          <a:ext cx="7239240" cy="27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514600"/>
                    <a:ext cx="723924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85800" y="3200400"/>
          <a:ext cx="7315200" cy="1892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200400"/>
                    <a:ext cx="731520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371600" y="5257800"/>
          <a:ext cx="6934320" cy="270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5257800"/>
                    <a:ext cx="693432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-level 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848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FS mount operation completes faster than the Ext2 mount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using an Ext2-mounted file system perform better than the NFS Version 2 and Version 3 file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basis of the mid-level tests, I can conclude that the NFS Version 3 file-system performance is generally comparable to NFS Version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762120"/>
            <a:ext cx="78483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designed and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 application-space cl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kernel-space cl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enhanced NFS and mount Version 2 servers to Version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implementation is comparable in performance with the NFS Version 2 imple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 expect better perform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more effective integration of my kernel-space client with VFS in the Linux ker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te Procedure Call (RP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RPC specification provides a procedure-oriented interface to remote serv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erver supplies a program, which is a set of procedures. The NFS service is one such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RPC provides the NFS server with the abstraction above lower-level network and transport protoc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Data Representation (XD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XDR specification provides a standard way of representing a set of data types on a net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pecification solves the problem of different byte orders, structure alignment, and data type representation on different, communicating 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FS file han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le handle is an opaque reference that is passed between the server and the cl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points to a server’s structure that has a pseudo-inode number and a hashed search p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le handle uniquely identifies a particular file on the ser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FS V 3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ed to support larger files and file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an access che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modifications in NFS Version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ing file attributes on every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that commits unsafe writes to stable stor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that reads a directory in one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relax limitations on transfer siz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 from the NF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sion 2 protoc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le-handle size has been increased to a variable-length array of 64 bytes maximum from a fixed array of 32 by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returns in some instances now return data. A basic datatype (nfsstat3) defines the full set of errors that can be returned by the serv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01:45:23Z</dcterms:created>
  <dc:creator>hgopal</dc:creator>
  <dc:description/>
  <dc:language>en-US</dc:language>
  <cp:lastModifiedBy>NT Local User</cp:lastModifiedBy>
  <cp:lastPrinted>2000-07-03T20:39:18Z</cp:lastPrinted>
  <dcterms:modified xsi:type="dcterms:W3CDTF">2000-07-03T20:59:49Z</dcterms:modified>
  <cp:revision>43</cp:revision>
  <dc:subject/>
  <dc:title>NFS Version 3 for Linux</dc:title>
</cp:coreProperties>
</file>