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8.png" ContentType="image/png"/>
  <Override PartName="/ppt/media/image12.png" ContentType="image/png"/>
  <Override PartName="/ppt/media/image30.png" ContentType="image/png"/>
  <Override PartName="/ppt/media/image32.png" ContentType="image/png"/>
  <Override PartName="/ppt/media/image10.png" ContentType="image/png"/>
  <Override PartName="/ppt/media/image34.png" ContentType="image/pn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5BF-4D32-4FE5-B42B-E716F656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487-01DC-4E0A-A86F-3E834A56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B38-1873-47AD-A42A-77944347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B47-1E68-43C3-9965-B67F7F7C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87CA-4A7F-499F-AF0D-61494FBE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285E-302D-4A5B-B622-8B836841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5277-064D-4053-80BC-2A6B9B1C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A6B4-B1F2-453B-81B9-7531E82E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0124-968D-4A90-9D2E-0165379B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5A6C-6430-4053-B02E-7A801D07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3A24-E5D4-4072-AD2A-730B8A57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581-BC7F-44B6-8818-5AD29DA2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2799-2107-4BB7-AA11-42B0895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FCC4-1F05-43DA-8A5A-4C6620C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E7E0-CDDF-42DB-9083-4B86F3BF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D5EB-7EF4-4B99-916F-4268F4DC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65D9-46F4-4556-B59A-751EB5E1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7B23-1B90-4A4F-9A6D-2B649CAA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4E93-E318-4510-85E9-4B7958E7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50CA-7CFA-4D23-AAC8-F05D3871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77E1-8364-4467-81A8-84E6DE76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A40D-E6DD-4FBA-8D3B-0CEB46EF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7AF-39AA-4BFE-861E-978F85EA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DBCE-6BC3-4D74-9AC8-71C53316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811E-2B28-4514-9861-6D2ACD6C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E3C4-797F-4290-8E3B-077F5FD3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EB67-9258-4F88-8CDE-9853FFE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8EE58-5B5F-4F78-A226-A2FBD712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1B5D-8FA4-4251-BAD1-1DD29EBC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91AA-6871-4F92-A120-EDF64746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72203-0F8E-421E-8B7D-BFEFC61D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C3B5-ED3B-4535-B686-D5E37B3E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18C5-20A3-4067-96A6-6FA071A4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F67-5295-4972-B523-7674440D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4C59B-69A7-446D-90C1-B8B9940E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724A2-2779-475A-87D9-7FD48FE8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D1119-65C8-4C40-97E0-BD3C64FB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DFB3-7C60-40EA-8E51-FB97326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482C-02BD-479A-A501-2DEAD88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6F5B-E14E-4E3D-A6A5-CD7635DA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D616-C203-44C5-916C-652A4EB6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CC6BC-BF76-4C69-BE88-6EEC7D81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6A4A2-022B-4757-A5A5-E36E5C95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CADF-DD01-48F0-AAF6-93CEB68C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05F-70F9-404E-9AF0-F081F143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FD3E6-6B8C-4834-B717-B1A00F84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F3C44-EBD2-4BC2-B864-C3987D24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95F85-181B-4114-9220-FC4741F9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0B722-D546-46B2-9341-A8D02AFE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3681-CA14-4489-AA92-1F9AB3ED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A1D8-053C-4D39-A862-BC0FEBE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B4CD-CF35-496D-B165-BBB55E4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D4668-7B4A-46D8-B46E-349174B9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86B7B-1444-4FCC-811B-4B2844B5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37BCE-340B-4E65-833B-C7A99167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7BB-81C8-4AF4-B088-5319E08C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524D-E4F5-4682-A710-9962AB13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EE03B-3DE3-48E5-8F93-E602713E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753D3-BC52-4B69-B8CB-382F8323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18E96-53C4-460B-B72E-8A8195D3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312FD-0824-4467-84D4-3B394C8D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51323-A4E6-48E4-BDD0-6522C51A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2DDCA-41B8-4201-8D66-E31BFCF2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E4B4D-22CF-4A5B-AAB4-F588CF59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932D2-F2EA-4D4A-B1EB-40234460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4F6E3-435B-43E2-AB82-3C0A3097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645-6D11-4CBE-A6CE-ED000BCA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11DD0-DB2C-462E-90D9-1939CAC2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FB2E0-701F-473A-95EC-EF16D8C9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574E1-BD1E-4F10-91A8-46097412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4BB1-7623-4DCB-B88D-86E041BE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E633-F046-44B1-BCA6-700CDD9A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C6451-02EE-40D0-8EB9-ACD4EC81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50B09-1F77-4D58-B6A9-CED3A461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2BE9C-6548-416C-BBF0-AA098812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219A3-6201-4866-957A-077E3E0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5EC4D-D509-42C2-9D2E-1876433B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7DA-6606-4FA8-AD76-4F6A673B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7F81D-4931-44BC-8EBF-EEAE480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6B11B-F139-402C-A747-A0850258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E2F7-1D0C-4A4E-9B8B-A8CC9F36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3A2AA-6FF9-44A7-9400-0B5684D7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4E491-B761-484A-A6B1-07BC5D8B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9B6-D5AD-410B-84F7-BCB80E6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B52C-33D9-487F-B6A5-DE3B9D8810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6E3A-6D3C-4E7E-B817-8F2988DA5344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D9AE-8065-4747-974F-B293DD72395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9c2d1">
                  <a:alpha val="1176"/>
                </a:srgbClr>
              </a:gs>
              <a:gs pos="100000">
                <a:srgbClr val="c9c2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97527"/>
              </a:gs>
              <a:gs pos="100000">
                <a:srgbClr val="f9df8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C047-6176-4AA6-85E3-F879A8A906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9E4E-D7E4-4793-81AF-3BC469976A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2C47-FCCE-405B-8098-21A025A100C1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DB96-6563-4B40-9B00-C7DA2D23E018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inkworks.com/brainfood/p/latreal1.s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archive.org/details/lifelettersofcar00colluoft" TargetMode="External"/><Relationship Id="rId5" Type="http://schemas.openxmlformats.org/officeDocument/2006/relationships/hyperlink" Target="http://en.wikipedia.org/wiki/London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702000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Logic-Puzzle Sol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University of Kentuck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Computer Science Depar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Masters Project Fall 20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Darra Ric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04920" y="2590920"/>
            <a:ext cx="85406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TextBox 4"/>
          <p:cNvSpPr/>
          <p:nvPr/>
        </p:nvSpPr>
        <p:spPr>
          <a:xfrm>
            <a:off x="304920" y="1066680"/>
            <a:ext cx="739116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The scenario and objects to be deduced are state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Three men named John, Ansean and Ronald who each live in a colored house (red, green or blue); all have different occupations (mechanic, gym teacher or painter).  Figure out which man lives in what color house and what his occupation i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A solution associates each element of each category (name, color, occupation) with exactly one element of each other categor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 set of clues are give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Ronald is not the paint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Ansean does not live in a blue hou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The man that lives in the green house is the paint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John is the gym teach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The man who is the mechanic does not live in a red hou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The player deduces information from the scenario and clues, and then fills in a grid with true/false indicators until all objects are deduc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The solution is exa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Gill Sans MT"/>
              </a:rPr>
              <a:t>Person 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Gill Sans MT"/>
              </a:rPr>
              <a:t>House Color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Gill Sans MT"/>
              </a:rPr>
              <a:t>Occup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Ronald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Blue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Mechan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John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Red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Gym Teach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Ansean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Green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Pai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Logic grid puzzles can be processed by the logic puzzle solv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7" name="Picture 54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2438640" cy="19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8" name="Text Box 55"/>
          <p:cNvSpPr/>
          <p:nvPr/>
        </p:nvSpPr>
        <p:spPr>
          <a:xfrm>
            <a:off x="609480" y="76320"/>
            <a:ext cx="74678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Logic Grid Puzz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914400" y="1447560"/>
            <a:ext cx="8004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stom Logic Grid Cre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active Logic Grid Input Interf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 Solve Deduction to puzzle so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ue Builder Interf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ve/Open Existing Logic Gri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ava Appl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838080" y="228600"/>
            <a:ext cx="74678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 Puzzle 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Main Features of the Appl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1"/>
          <a:stretch/>
        </p:blipFill>
        <p:spPr>
          <a:xfrm>
            <a:off x="3429000" y="3352680"/>
            <a:ext cx="5562720" cy="3124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-3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ogic Grid Key Compon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ategor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set of objects that correspond to the same group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very category contains the same number of objects/opt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rid Bloc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rresponds to an option pai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ked true, false or blank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rid Regio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ins (P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grid bloc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rresponds to an individual pair of categor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ach pair of categories is associated with exactly one grid regio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8380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tructur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5181840" cy="4572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152280" y="1523880"/>
            <a:ext cx="373392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ertical Pane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tegory #1 …(# of Categories -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orizontal Pan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#of Categories, (# of Categories -1)…Category 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rid Formul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ndard logic grid contains (C -1) rows of grid regions, C being the number of categ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grid regions in each row r is C -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xam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Category #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Category Na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a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Color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Occup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8380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 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tructur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5181840" cy="4572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8088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ogic Grid (maingrid.java)  is a jagged multidimensional array that consists of these three objects (Java classe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loc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id Reg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tegor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ceb966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he user enters the number of categories, name of each category, number of options in each category and the name of each option as inpu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2438640" cy="19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0" name="Picture 2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666880" cy="19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1" name="Picture 1" descr=""/>
          <p:cNvPicPr/>
          <p:nvPr/>
        </p:nvPicPr>
        <p:blipFill>
          <a:blip r:embed="rId3"/>
          <a:stretch/>
        </p:blipFill>
        <p:spPr>
          <a:xfrm>
            <a:off x="6248520" y="4572000"/>
            <a:ext cx="2514600" cy="19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2" name="Picture 6" descr=""/>
          <p:cNvPicPr/>
          <p:nvPr/>
        </p:nvPicPr>
        <p:blipFill>
          <a:blip r:embed="rId4"/>
          <a:stretch/>
        </p:blipFill>
        <p:spPr>
          <a:xfrm>
            <a:off x="533520" y="3124080"/>
            <a:ext cx="1371600" cy="1295640"/>
          </a:xfrm>
          <a:prstGeom prst="rect">
            <a:avLst/>
          </a:prstGeom>
          <a:ln w="0">
            <a:noFill/>
          </a:ln>
        </p:spPr>
      </p:pic>
      <p:sp>
        <p:nvSpPr>
          <p:cNvPr id="643" name="TextBox 8"/>
          <p:cNvSpPr/>
          <p:nvPr/>
        </p:nvSpPr>
        <p:spPr>
          <a:xfrm>
            <a:off x="2057400" y="35053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xample Logic Gr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3 Categories with 3 options in each grid reg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838080" y="228600"/>
            <a:ext cx="74678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 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01680" y="1599840"/>
            <a:ext cx="854064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lock (block.java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t to either true/false or n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an action listener that changes its color to red, green or grey upon a user cli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methods that allow it to interface with the entire logic grid object (maingrid.jav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457200" cy="533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4114800" y="4952880"/>
            <a:ext cx="438120" cy="533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48" name="Picture 7" descr=""/>
          <p:cNvPicPr/>
          <p:nvPr/>
        </p:nvPicPr>
        <p:blipFill>
          <a:blip r:embed="rId3"/>
          <a:stretch/>
        </p:blipFill>
        <p:spPr>
          <a:xfrm>
            <a:off x="5105520" y="4952880"/>
            <a:ext cx="520560" cy="53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49" name="Text Box 8"/>
          <p:cNvSpPr/>
          <p:nvPr/>
        </p:nvSpPr>
        <p:spPr>
          <a:xfrm>
            <a:off x="8380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 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04920" y="1599840"/>
            <a:ext cx="854064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rid Region (gridblock.jav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dimensional array of grid block objects (block.jav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mensions are determined by the number of options each category contains (specified by us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methods which allow it to interface with the entire logic grid object (maingrid.jav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tretch/>
        </p:blipFill>
        <p:spPr>
          <a:xfrm>
            <a:off x="2362320" y="5257800"/>
            <a:ext cx="74268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2" name="Picture 5" descr=""/>
          <p:cNvPicPr/>
          <p:nvPr/>
        </p:nvPicPr>
        <p:blipFill>
          <a:blip r:embed="rId2"/>
          <a:stretch/>
        </p:blipFill>
        <p:spPr>
          <a:xfrm>
            <a:off x="1676520" y="5486400"/>
            <a:ext cx="476280" cy="48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3" name="Picture 6" descr=""/>
          <p:cNvPicPr/>
          <p:nvPr/>
        </p:nvPicPr>
        <p:blipFill>
          <a:blip r:embed="rId3"/>
          <a:stretch/>
        </p:blipFill>
        <p:spPr>
          <a:xfrm>
            <a:off x="3276720" y="5029200"/>
            <a:ext cx="9619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4" name="Picture 7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142884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5" name="Picture 9" descr=""/>
          <p:cNvPicPr/>
          <p:nvPr/>
        </p:nvPicPr>
        <p:blipFill>
          <a:blip r:embed="rId5"/>
          <a:stretch/>
        </p:blipFill>
        <p:spPr>
          <a:xfrm>
            <a:off x="4343400" y="4800600"/>
            <a:ext cx="1200240" cy="119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TextBox 13"/>
          <p:cNvSpPr/>
          <p:nvPr/>
        </p:nvSpPr>
        <p:spPr>
          <a:xfrm>
            <a:off x="1600200" y="502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2 X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Box 14"/>
          <p:cNvSpPr/>
          <p:nvPr/>
        </p:nvSpPr>
        <p:spPr>
          <a:xfrm>
            <a:off x="2362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TextBox 15"/>
          <p:cNvSpPr/>
          <p:nvPr/>
        </p:nvSpPr>
        <p:spPr>
          <a:xfrm>
            <a:off x="342900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 X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4572000" y="43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5 X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Box 17"/>
          <p:cNvSpPr/>
          <p:nvPr/>
        </p:nvSpPr>
        <p:spPr>
          <a:xfrm>
            <a:off x="6019920" y="41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6 X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838080" y="228600"/>
            <a:ext cx="74678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 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49552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3" name="Picture 3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6002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4" name="TextBox 6"/>
          <p:cNvSpPr/>
          <p:nvPr/>
        </p:nvSpPr>
        <p:spPr>
          <a:xfrm>
            <a:off x="304920" y="1371600"/>
            <a:ext cx="853416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logic grid input interface is a two-dimensional jagged array of grid region objects (gridblock.java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number of categories and the number of options entered by user determine the  multidimensional jagged array dimens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Contains (C -1) rows of grid regions, where C is the number of categor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number of grid regions in each row r is C –r, where r is the row numbe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logic grid object contains methods to reset the entire grid, functionality to undo/redo grid selections and to deduce new information from existing information selected in the logic gri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5" name="Picture 1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2514600" cy="2279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666" name="Text Box 7"/>
          <p:cNvSpPr/>
          <p:nvPr/>
        </p:nvSpPr>
        <p:spPr>
          <a:xfrm>
            <a:off x="838080" y="228600"/>
            <a:ext cx="74678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Interactive Logic Grid Input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533520" y="114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propagates equality relations as in the following to solve the logic gri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= B, B = C =&gt; A = 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=B means that option A in its category is associated with option B in its categor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5410080" y="4191120"/>
          <a:ext cx="3276720" cy="1447560"/>
        </p:xfrm>
        <a:graphic>
          <a:graphicData uri="http://schemas.openxmlformats.org/drawingml/2006/table">
            <a:tbl>
              <a:tblPr/>
              <a:tblGrid>
                <a:gridCol w="800280"/>
                <a:gridCol w="762120"/>
                <a:gridCol w="936360"/>
                <a:gridCol w="7779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i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g_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us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g_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k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ile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g_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imm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n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g_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us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5"/>
          <p:cNvSpPr/>
          <p:nvPr/>
        </p:nvSpPr>
        <p:spPr>
          <a:xfrm>
            <a:off x="380880" y="2438280"/>
            <a:ext cx="5257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iven Fact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m = Thing_3, Jim != House and Jim !=  C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inc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m = Thing_3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t can be deduced through the equality relation th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m = Thing_3 =&gt; Thing_3 != House and Thing_3 != C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iven Fact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ing_3 = Trail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t can be deduced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ing_3 = Trailer =&gt; Trailer = Jim and Trailer !=Cat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762120" y="152280"/>
            <a:ext cx="8001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mplementation – Equality Rel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53352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ertical 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PS examines the logic grid for true block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true block indicates that an option A from a category 1 is equal to an option B from a category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ry (true/false) choice in the option B row propagates vertically to the option A 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PS sets every blank block in the same row or column as the true block at hand to fal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 the following examples, the category number is the first character at the beginning of each label, the number and the letter combined represent the op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re are three categories:  1, 2, and 3 and three options in each :  Category 1 contains (1A, 1B and 1C), Category 2 contains (2A, 2B and 2C) and Category 3 contains (3A, 3B and 3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Picture 1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275256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278136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4" name="TextBox 6"/>
          <p:cNvSpPr/>
          <p:nvPr/>
        </p:nvSpPr>
        <p:spPr>
          <a:xfrm>
            <a:off x="1143000" y="5791320"/>
            <a:ext cx="746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838080" y="62434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1 of Vertical Propagation in Logic Grid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2B = 1B , 2B !=3A, 2B != 3C   =&gt;  1B != 3A  1B != 3C, 1B != 2A, 1B != 2C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1295280" y="1522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Vertic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is the Logic-Puzzle Solver?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m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0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gic-Puzzle Histor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5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ferent Types of Logic Puzzles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5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in Features of the Appl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ustom Logic Grid Crea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3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teractive Logic Grid Input Interface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3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duction Algorithm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0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ue Builder Interfac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5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I Learned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3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uture Work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3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04920" y="1294920"/>
            <a:ext cx="8540640" cy="17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tic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examines each grid region for false bloc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false block indicates that an option A in its category 1 is NOT equal to an option B in its category 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y true choices in the corresponding rows for option B from its category 2 are set to false in the corresponding rows for option A in its category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8" name="Picture 1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254304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9" name="Picture 2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249552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0" name="Rectangle 4"/>
          <p:cNvSpPr/>
          <p:nvPr/>
        </p:nvSpPr>
        <p:spPr>
          <a:xfrm>
            <a:off x="457200" y="594288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2 of Vertical 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B != 1B, 2B=3B  =&gt; 3B !=1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1600200" y="2286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Vertic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04920" y="1218960"/>
            <a:ext cx="85406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rizontal Propag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examines each column in each grid region for true block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ery (true/false) choice in the option B column  propagates horizontally  to the option A colum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sets every blank block in the same row or column as a true block to fal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3" name="Picture 3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261936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4" name="Picture 4" descr=""/>
          <p:cNvPicPr/>
          <p:nvPr/>
        </p:nvPicPr>
        <p:blipFill>
          <a:blip r:embed="rId2"/>
          <a:stretch/>
        </p:blipFill>
        <p:spPr>
          <a:xfrm>
            <a:off x="4518000" y="3809880"/>
            <a:ext cx="264492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5" name="Rectangle 5"/>
          <p:cNvSpPr/>
          <p:nvPr/>
        </p:nvSpPr>
        <p:spPr>
          <a:xfrm>
            <a:off x="2212200" y="5988960"/>
            <a:ext cx="367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1 of Horizontal 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B = 3B, 2B != 1A, 2B != 1C =&gt; 3B != 1A,  3B != 1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1295280" y="2286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Horizont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PS examines each column in each grid region for false blo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y true choices in the corresponding columns for option B from its category 2 are set to false in the corresponding columns for option A in its category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243864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9" name="Picture 6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258120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0" name="Rectangle 4"/>
          <p:cNvSpPr/>
          <p:nvPr/>
        </p:nvSpPr>
        <p:spPr>
          <a:xfrm>
            <a:off x="304920" y="5981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2 of Horizontal 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B != 3B,  3B = 1B =&gt; 2B !=1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137160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Horizont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04920" y="1371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lict Recogn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notifies the user of grid block conflicts by a red bor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3" name="Picture 3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232416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4" name="TextBox 7"/>
          <p:cNvSpPr/>
          <p:nvPr/>
        </p:nvSpPr>
        <p:spPr>
          <a:xfrm>
            <a:off x="685800" y="23623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B = 1B, 2B != 3A  and 2B!=3C =&gt; 1B !=3A,  but the grid says that 1B = 3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371600" y="228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Conflict Recogn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304920" y="1905120"/>
            <a:ext cx="5333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rs can compose and automatically apply puzzle clues into the logic grid using the clue builder interfa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vailable operations are : IS (=) and IS NOT (!=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im IS in the co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composite clues, operations  AND/OR are availabl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im IS in the condo AND owns a r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3029040" cy="522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98" name="Rectangle 5"/>
          <p:cNvSpPr/>
          <p:nvPr/>
        </p:nvSpPr>
        <p:spPr>
          <a:xfrm>
            <a:off x="1981080" y="1522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457200" y="1599840"/>
            <a:ext cx="854064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ue object class (Clue.jav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clue is entered by the user through the clue-build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ists of a base category, base option, IS/IS NOT Boolean choice and at least one additional category p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TextBox 3"/>
          <p:cNvSpPr/>
          <p:nvPr/>
        </p:nvSpPr>
        <p:spPr>
          <a:xfrm>
            <a:off x="152280" y="3809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hn IS NOT Tal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PERSON, John) IS NOT (CHARACTERISTIC, Tal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TextBox 4"/>
          <p:cNvSpPr/>
          <p:nvPr/>
        </p:nvSpPr>
        <p:spPr>
          <a:xfrm>
            <a:off x="914400" y="5105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Base Categor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3809880" y="51055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Additional Categor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TextBox 6"/>
          <p:cNvSpPr/>
          <p:nvPr/>
        </p:nvSpPr>
        <p:spPr>
          <a:xfrm>
            <a:off x="2666880" y="43434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Boolean Oper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2209680" y="5105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Base Op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TextBox 8"/>
          <p:cNvSpPr/>
          <p:nvPr/>
        </p:nvSpPr>
        <p:spPr>
          <a:xfrm>
            <a:off x="5334120" y="51055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Additional  Op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Rectangle 10"/>
          <p:cNvSpPr/>
          <p:nvPr/>
        </p:nvSpPr>
        <p:spPr>
          <a:xfrm>
            <a:off x="2362320" y="228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Clue.j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"/>
          <p:cNvGraphicFramePr/>
          <p:nvPr/>
        </p:nvGraphicFramePr>
        <p:xfrm>
          <a:off x="762120" y="3276720"/>
          <a:ext cx="4114800" cy="2239920"/>
        </p:xfrm>
        <a:graphic>
          <a:graphicData uri="http://schemas.openxmlformats.org/drawingml/2006/table">
            <a:tbl>
              <a:tblPr/>
              <a:tblGrid>
                <a:gridCol w="960480"/>
                <a:gridCol w="3154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ctor Inde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/Option Pa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ARACTERISTIC, Tal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ARACTERISTIC, Obes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TATE, Kentuck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708" name="TextBox 4"/>
          <p:cNvSpPr/>
          <p:nvPr/>
        </p:nvSpPr>
        <p:spPr>
          <a:xfrm>
            <a:off x="533520" y="2743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ohn IS NOT Tall OR Obese OR from K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5562720" y="297180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ase Category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PER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ase Opti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Joh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oolean Operation 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IS N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ditional Category/Option Pai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HARACTERISTIC, Tal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HARACTERISTIC, Obes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STATE, Kentuck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hn IS NOT T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hn IS NOT Obe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hn IS NOT from Kentuck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Rectangle 23"/>
          <p:cNvSpPr/>
          <p:nvPr/>
        </p:nvSpPr>
        <p:spPr>
          <a:xfrm>
            <a:off x="2362320" y="152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Clue.j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Content Placeholder 2"/>
          <p:cNvSpPr/>
          <p:nvPr/>
        </p:nvSpPr>
        <p:spPr>
          <a:xfrm>
            <a:off x="380880" y="2209680"/>
            <a:ext cx="854100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533520" y="9144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Content Placeholder 2"/>
          <p:cNvSpPr/>
          <p:nvPr/>
        </p:nvSpPr>
        <p:spPr>
          <a:xfrm>
            <a:off x="380880" y="1219320"/>
            <a:ext cx="8541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ditional category pairs are stored in a vector object and processed individua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304920" y="1142640"/>
            <a:ext cx="854064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nding Clu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ome clues cannot be applied directly to the logic grid because they require supporting informa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ohn IS tall OR from KY or drives a Mazda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IS/OR combination means John is exactly only one of the options listed within the clu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PS updates and narrows down pending clues as more information is deduced from the logic grid ( process of elimination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s LPS deduces more information, category/option pairs are removed from the additional category vect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hen only one category/option pair remains, the clue is applied to the logic gri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304920" y="5105520"/>
          <a:ext cx="2895480" cy="1600200"/>
        </p:xfrm>
        <a:graphic>
          <a:graphicData uri="http://schemas.openxmlformats.org/drawingml/2006/table">
            <a:tbl>
              <a:tblPr/>
              <a:tblGrid>
                <a:gridCol w="761760"/>
                <a:gridCol w="2133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ctor Index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/Option Pai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ARACTERISTIC, Tall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 </a:t>
                      </a: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TATE, Kentucky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VEHICLE, Mazda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3352680" y="5105520"/>
          <a:ext cx="2667240" cy="1133280"/>
        </p:xfrm>
        <a:graphic>
          <a:graphicData uri="http://schemas.openxmlformats.org/drawingml/2006/table">
            <a:tbl>
              <a:tblPr/>
              <a:tblGrid>
                <a:gridCol w="727200"/>
                <a:gridCol w="19400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ctor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/Option Pai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3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ARACTERISTIC, Tall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VEHICLE, Maz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6172200" y="5105520"/>
          <a:ext cx="2743200" cy="828720"/>
        </p:xfrm>
        <a:graphic>
          <a:graphicData uri="http://schemas.openxmlformats.org/drawingml/2006/table">
            <a:tbl>
              <a:tblPr/>
              <a:tblGrid>
                <a:gridCol w="762120"/>
                <a:gridCol w="1981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ctor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/Option Pai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VEHICLE, Maz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718" name="TextBox 6"/>
          <p:cNvSpPr/>
          <p:nvPr/>
        </p:nvSpPr>
        <p:spPr>
          <a:xfrm>
            <a:off x="152280" y="457200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ohn DOES NOT live in Kentuck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TextBox 7"/>
          <p:cNvSpPr/>
          <p:nvPr/>
        </p:nvSpPr>
        <p:spPr>
          <a:xfrm>
            <a:off x="3733920" y="4572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ohn IS NOT Ta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Rectangle 48"/>
          <p:cNvSpPr/>
          <p:nvPr/>
        </p:nvSpPr>
        <p:spPr>
          <a:xfrm>
            <a:off x="2286000" y="152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Pending Cl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380520" y="1219320"/>
            <a:ext cx="85410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sociate clues are clues derived from IS/OR composite clu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en all of the options in a composite IS/OR clue come from the same category, it is derived that the base option IS NOT the remaining unlisted op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sociate clues are not pending and can be applied directly to logic gri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581280" y="4114800"/>
          <a:ext cx="2286000" cy="24969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:  CHARACTERI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723" name="TextBox 4"/>
          <p:cNvSpPr/>
          <p:nvPr/>
        </p:nvSpPr>
        <p:spPr>
          <a:xfrm>
            <a:off x="1143000" y="35812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ohn is tall or obese or short  = &gt; John IS NOT Stocky or Sl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Rectangle 21"/>
          <p:cNvSpPr/>
          <p:nvPr/>
        </p:nvSpPr>
        <p:spPr>
          <a:xfrm>
            <a:off x="2286000" y="152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Associate Cl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er-Interface Princip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ructure:  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r Interface requires an organized and meaningful user interface design.  The location of the core functionality should be apparent to us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isibility: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necessary user interface components designated for a specific task are evident, visible and distinguishable from any other user interface compon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velopment project management using Netbeans integrated development environ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va object-oriented programm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va Swing librar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va apple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2362320" y="2286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What I Lear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04920" y="1371240"/>
            <a:ext cx="854064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 web application that performs the deductive reasoning necessary to solve most logic grid puzzles and proble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tivation for creati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To provide an online supplemental tool to use for deducing the solution to logic grid proble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7010280" cy="3666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98" name="Text Box 6"/>
          <p:cNvSpPr/>
          <p:nvPr/>
        </p:nvSpPr>
        <p:spPr>
          <a:xfrm>
            <a:off x="609480" y="30492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hat is i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533160" y="838080"/>
            <a:ext cx="838188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 Logic Puzzle Solver to puzzles of larger size.  LPS currently can only handle puzzles with a maximum of 6 categories and 6 options (6x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 numeric quantity categories such as WEIGHT(150 LB,180 LB, 233 LB, 152LB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CH clue ty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oy and Gloria are in some order the swimmer and the person who is 23 years ol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tch clue type would signal LPS to exclude all other person options except Troy and Gloria with the options SPORT(Swimming) and AGE(2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 order-position related categories POSITION(1,2,3,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sean is heavier than the person who is standing two positions to the left of the person who is heavier than Gloria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362320" y="2286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Future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04920" y="10663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ogic Puzzle database, with unsolved puzzles for the user to choose from.  This enhancement will alleviate users from having to use logic puzzles from outside sour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362320" y="2286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Future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in Food. “#2.”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rinkworks.com/brainfood/p/latreal1.s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scher, Dave. “Logic Puzzles”, Puzzles.about.com/od/glossary/g/logic_puzzles.htm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kipedia contributors. "Lewis Carroll." 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ikipedia, The Free Encycloped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Wikipedia, The Free Encyclopedia, 6 Sep. 2012. Web. 16 Sep. 201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294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 logic puzzle is a puzzle in which the solution can deduced from a given set of condition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Logic puzzles were popularized in the book </a:t>
            </a:r>
            <a:r>
              <a:rPr b="0" i="1" lang="en-US" sz="1500" spc="-1" strike="noStrike">
                <a:solidFill>
                  <a:srgbClr val="ffffff"/>
                </a:solidFill>
                <a:latin typeface="Tahoma"/>
              </a:rPr>
              <a:t>The Game of Logic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ublished in 1886 by Charles Lutwidge Dodgson, also known as Lewis Carroll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odgson also is the author of the well known works, </a:t>
            </a:r>
            <a:r>
              <a:rPr b="0" i="1" lang="en-US" sz="1500" spc="-1" strike="noStrike">
                <a:solidFill>
                  <a:srgbClr val="ffffff"/>
                </a:solidFill>
                <a:latin typeface="Tahoma"/>
              </a:rPr>
              <a:t>Alice and Wonderland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500" spc="-1" strike="noStrike">
                <a:solidFill>
                  <a:srgbClr val="ffffff"/>
                </a:solidFill>
                <a:latin typeface="Tahoma"/>
              </a:rPr>
              <a:t>(1865)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1500" spc="-1" strike="noStrike">
                <a:solidFill>
                  <a:srgbClr val="ffffff"/>
                </a:solidFill>
                <a:latin typeface="Tahoma"/>
              </a:rPr>
              <a:t>Through the Looking Glass (1872)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odgson was a mathematician whose concentration was primarily on symbolic logic and logical reasoning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6" descr="http://upload.wikimedia.org/wikipedia/commons/thumb/f/fb/LewisCarrollSelfPhoto.jpg/220px-LewisCarrollSelfPhoto.jpg"/>
          <p:cNvPicPr/>
          <p:nvPr/>
        </p:nvPicPr>
        <p:blipFill>
          <a:blip r:embed="rId1"/>
          <a:stretch/>
        </p:blipFill>
        <p:spPr>
          <a:xfrm>
            <a:off x="685800" y="4724280"/>
            <a:ext cx="201132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01" name="Picture 7" descr="fig1-35.gif"/>
          <p:cNvPicPr/>
          <p:nvPr/>
        </p:nvPicPr>
        <p:blipFill>
          <a:blip r:embed="rId2"/>
          <a:stretch/>
        </p:blipFill>
        <p:spPr>
          <a:xfrm>
            <a:off x="4038480" y="4648320"/>
            <a:ext cx="2011320" cy="202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02" name="Picture 2" descr="http://www.nudelmanbooks.com/pictures/257.jpg"/>
          <p:cNvPicPr/>
          <p:nvPr/>
        </p:nvPicPr>
        <p:blipFill>
          <a:blip r:embed="rId3"/>
          <a:stretch/>
        </p:blipFill>
        <p:spPr>
          <a:xfrm>
            <a:off x="6324480" y="4648320"/>
            <a:ext cx="184968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3" name="Text Box 8"/>
          <p:cNvSpPr/>
          <p:nvPr/>
        </p:nvSpPr>
        <p:spPr>
          <a:xfrm>
            <a:off x="6094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 Puzz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114800"/>
            <a:ext cx="22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4191120"/>
            <a:ext cx="2286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The Game of Logic – C.L Dodgeson aka Lewis Carroll (1886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" y="4044600"/>
            <a:ext cx="2666880" cy="62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Stuart Dodgson (1898) </a:t>
            </a:r>
            <a:r>
              <a:rPr b="0" lang="en-US" sz="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The Life and Letters of Lewis Carroll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London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: T. Fisher Unwin, pp. p. 50 Retrieved on 22 December 2010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4" descr="http://www.hrc.utexas.edu/exhibitions/web/carroll/images/gameoflogicbig.jpg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74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8" name="TextBox 3"/>
          <p:cNvSpPr/>
          <p:nvPr/>
        </p:nvSpPr>
        <p:spPr>
          <a:xfrm>
            <a:off x="91440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e Game of Logic – C.L Dodgson aka Lewis Carroll (188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914400" y="152280"/>
            <a:ext cx="74674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 Puzz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04920" y="1218960"/>
            <a:ext cx="8540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re are many types of logic puzz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dok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nK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teral Thin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gic Gri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1" name="Picture 4" descr="kenken_6x6_CNET_1.9.2008.png"/>
          <p:cNvPicPr/>
          <p:nvPr/>
        </p:nvPicPr>
        <p:blipFill>
          <a:blip r:embed="rId1"/>
          <a:stretch/>
        </p:blipFill>
        <p:spPr>
          <a:xfrm>
            <a:off x="609480" y="3581280"/>
            <a:ext cx="335304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2" name="Picture 5" descr="Soduku-Week-1.jpg"/>
          <p:cNvPicPr/>
          <p:nvPr/>
        </p:nvPicPr>
        <p:blipFill>
          <a:blip r:embed="rId2"/>
          <a:stretch/>
        </p:blipFill>
        <p:spPr>
          <a:xfrm>
            <a:off x="4724280" y="3581280"/>
            <a:ext cx="373392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13" name="Text Box 6"/>
          <p:cNvSpPr/>
          <p:nvPr/>
        </p:nvSpPr>
        <p:spPr>
          <a:xfrm>
            <a:off x="914400" y="228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04920" y="1447920"/>
            <a:ext cx="85406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olves a 9x9 grid divided into 3x3 sub-bloc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itially some numbers are given in the gri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object is to fill the grid using digits 1-9 in an arrangement  where no digit repeats in any sub-block, row, or colum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5" name="Picture 5" descr="Soduku.gif"/>
          <p:cNvPicPr/>
          <p:nvPr/>
        </p:nvPicPr>
        <p:blipFill>
          <a:blip r:embed="rId1"/>
          <a:stretch/>
        </p:blipFill>
        <p:spPr>
          <a:xfrm>
            <a:off x="1219320" y="3429000"/>
            <a:ext cx="3047760" cy="3029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6" name="Picture 6" descr="hardest-Soduku.jpg"/>
          <p:cNvPicPr/>
          <p:nvPr/>
        </p:nvPicPr>
        <p:blipFill>
          <a:blip r:embed="rId2"/>
          <a:stretch/>
        </p:blipFill>
        <p:spPr>
          <a:xfrm>
            <a:off x="5410080" y="3429000"/>
            <a:ext cx="2895840" cy="297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17" name="Text Box 6"/>
          <p:cNvSpPr/>
          <p:nvPr/>
        </p:nvSpPr>
        <p:spPr>
          <a:xfrm>
            <a:off x="6094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odo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04920" y="1219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39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milar to Sodoku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Grid size ranges from 3x3 to 9x9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olution  contains no number that appears more than once in any row or column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ere are no grid blocks; KenKen grids are divided into cages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Each cage is divided into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e digits in the cells of each cage must produce a target number when combined using a specified mathematical opera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9" name="Picture 3" descr="KenKen_4x4_Starter2.png"/>
          <p:cNvPicPr/>
          <p:nvPr/>
        </p:nvPicPr>
        <p:blipFill>
          <a:blip r:embed="rId1"/>
          <a:stretch/>
        </p:blipFill>
        <p:spPr>
          <a:xfrm>
            <a:off x="1066680" y="4267080"/>
            <a:ext cx="28195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0" name="Picture 4" descr="kenken_puzzle.png"/>
          <p:cNvPicPr/>
          <p:nvPr/>
        </p:nvPicPr>
        <p:blipFill>
          <a:blip r:embed="rId2"/>
          <a:stretch/>
        </p:blipFill>
        <p:spPr>
          <a:xfrm>
            <a:off x="4800600" y="4267080"/>
            <a:ext cx="320040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1" name="Text Box 6"/>
          <p:cNvSpPr/>
          <p:nvPr/>
        </p:nvSpPr>
        <p:spPr>
          <a:xfrm>
            <a:off x="6094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Ken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0880" y="12193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Riddle type puzzle requiring critical and logical think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Unlike most riddles they are inexa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Hybrid between puzzles and story tell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A scenario with an unlikely outcome is presented to a play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Solution is found by deriving  a feasible and logical reason for the outcome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The player asks the presenter questions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about the scenario that can only be answered with Yes, No or irrelevan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1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4691520"/>
            <a:ext cx="8915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Scena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In the middle of the ocean is a yacht.  Several corpses are floating in the water nearb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Solution  </a:t>
            </a:r>
            <a:r>
              <a:rPr b="1" i="1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A group of people were on an ocean voyage in a yacht.  One day they decided to go swim.  They put on their swim suits and dove off the side of the yacht.  They discovered belatedly that they had forgotten to put a ladder down the side of the yacht and couldn’t climb in so they drown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6094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ill Sans MT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Gill Sans MT"/>
              </a:rPr>
              <a:t>Lateral Thin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4:04:53Z</dcterms:created>
  <dc:creator>Owner</dc:creator>
  <dc:description/>
  <dc:language>en-US</dc:language>
  <cp:lastModifiedBy>Brian</cp:lastModifiedBy>
  <dcterms:modified xsi:type="dcterms:W3CDTF">2012-11-30T01:06:11Z</dcterms:modified>
  <cp:revision>262</cp:revision>
  <dc:subject/>
  <dc:title>Slide 1</dc:title>
</cp:coreProperties>
</file>