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7772400" cy="100584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14440" y="8331120"/>
            <a:ext cx="1427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343240" y="8331120"/>
            <a:ext cx="217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1120" y="1452600"/>
            <a:ext cx="509832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ing SAT over LDA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imanshu Sha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visor: Dr. Raphael Fink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iversity of Kentuck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33720" y="151200"/>
            <a:ext cx="216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DAP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320840"/>
            <a:ext cx="685656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DAP is defined in four mod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formation mod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defines the type of information that can be in an LDAP direc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ming mod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defines how an LDAP directory organizes and references the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defines what can be done with the information in an LDAP directory and how it accesses and  updates that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curity mod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defines how an LDAP directory protects the information from unauthorized access or modif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14400"/>
            <a:ext cx="632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form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formation model defines 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entry has man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ttribut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attribute may have man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alu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formation model also defines the type of each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151200"/>
            <a:ext cx="216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DAP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57600"/>
            <a:ext cx="67039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ming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ming model defines a way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quely identify an ent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ze data in a meaningful w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N (Distinguished Name) is a unique name given to any entry in a directory. 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N: uid=bjensen, ou=Engg, ou=people, dc=airi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ny DN, the leftmost component is called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l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istinguished Na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RD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above example,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id=bjens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RD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685800"/>
            <a:ext cx="6703920" cy="77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nction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DAP functional model defines methods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exist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ify exist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 new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DAP library provides API calls such 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dap_search(), ldap_get_values()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ldap_modify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access/modify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three types of scopes for the search ope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tree, which searches the entire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level, which searches only the immediate child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, which limits the search to the ba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curit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DAP security model  identifiies which clients may request access to the direc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LDAP client sends a DN and a password to an LDAP server in clear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760" y="151200"/>
            <a:ext cx="216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DAP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609480" y="1295280"/>
            <a:ext cx="1062000" cy="754200"/>
            <a:chOff x="609480" y="1295280"/>
            <a:chExt cx="1062000" cy="754200"/>
          </a:xfrm>
        </p:grpSpPr>
        <p:sp>
          <p:nvSpPr>
            <p:cNvPr id="82" name=""/>
            <p:cNvSpPr/>
            <p:nvPr/>
          </p:nvSpPr>
          <p:spPr>
            <a:xfrm>
              <a:off x="609480" y="1295280"/>
              <a:ext cx="1062000" cy="754200"/>
            </a:xfrm>
            <a:prstGeom prst="roundRect">
              <a:avLst>
                <a:gd name="adj" fmla="val 2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9560" y="1473480"/>
              <a:ext cx="681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o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09480" y="2209680"/>
            <a:ext cx="1062000" cy="754200"/>
          </a:xfrm>
          <a:prstGeom prst="roundRect">
            <a:avLst>
              <a:gd name="adj" fmla="val 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09480" y="3225960"/>
            <a:ext cx="1062000" cy="753840"/>
            <a:chOff x="609480" y="3225960"/>
            <a:chExt cx="1062000" cy="753840"/>
          </a:xfrm>
        </p:grpSpPr>
        <p:sp>
          <p:nvSpPr>
            <p:cNvPr id="86" name=""/>
            <p:cNvSpPr/>
            <p:nvPr/>
          </p:nvSpPr>
          <p:spPr>
            <a:xfrm>
              <a:off x="609480" y="3225960"/>
              <a:ext cx="1062000" cy="753840"/>
            </a:xfrm>
            <a:prstGeom prst="roundRect">
              <a:avLst>
                <a:gd name="adj" fmla="val 2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404160"/>
              <a:ext cx="482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724280" y="2311560"/>
            <a:ext cx="1062000" cy="753840"/>
            <a:chOff x="4724280" y="2311560"/>
            <a:chExt cx="1062000" cy="753840"/>
          </a:xfrm>
        </p:grpSpPr>
        <p:sp>
          <p:nvSpPr>
            <p:cNvPr id="89" name=""/>
            <p:cNvSpPr/>
            <p:nvPr/>
          </p:nvSpPr>
          <p:spPr>
            <a:xfrm>
              <a:off x="4724280" y="2311560"/>
              <a:ext cx="1062000" cy="753840"/>
            </a:xfrm>
            <a:prstGeom prst="roundRect">
              <a:avLst>
                <a:gd name="adj" fmla="val 2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63760" y="2489760"/>
              <a:ext cx="383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949680" y="2311200"/>
            <a:ext cx="581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38360" y="1701720"/>
            <a:ext cx="3085920" cy="10159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38360" y="2514600"/>
            <a:ext cx="3029040" cy="20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638360" y="2717640"/>
            <a:ext cx="3085920" cy="812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81400" y="685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5920" y="685440"/>
            <a:ext cx="264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 data stored on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85800"/>
            <a:ext cx="2665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sts of CS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47880" y="1599840"/>
            <a:ext cx="2024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usr/local/etc/s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71680" y="5587920"/>
            <a:ext cx="1062000" cy="754200"/>
            <a:chOff x="571680" y="5587920"/>
            <a:chExt cx="1062000" cy="754200"/>
          </a:xfrm>
        </p:grpSpPr>
        <p:sp>
          <p:nvSpPr>
            <p:cNvPr id="100" name=""/>
            <p:cNvSpPr/>
            <p:nvPr/>
          </p:nvSpPr>
          <p:spPr>
            <a:xfrm>
              <a:off x="571680" y="5587920"/>
              <a:ext cx="1062000" cy="754200"/>
            </a:xfrm>
            <a:prstGeom prst="roundRect">
              <a:avLst>
                <a:gd name="adj" fmla="val 2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1400" y="5766120"/>
              <a:ext cx="681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o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71680" y="6502320"/>
            <a:ext cx="1062000" cy="754200"/>
          </a:xfrm>
          <a:prstGeom prst="roundRect">
            <a:avLst>
              <a:gd name="adj" fmla="val 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71680" y="7518240"/>
            <a:ext cx="1062000" cy="754200"/>
            <a:chOff x="571680" y="7518240"/>
            <a:chExt cx="1062000" cy="754200"/>
          </a:xfrm>
        </p:grpSpPr>
        <p:sp>
          <p:nvSpPr>
            <p:cNvPr id="104" name=""/>
            <p:cNvSpPr/>
            <p:nvPr/>
          </p:nvSpPr>
          <p:spPr>
            <a:xfrm>
              <a:off x="571680" y="7518240"/>
              <a:ext cx="1062000" cy="754200"/>
            </a:xfrm>
            <a:prstGeom prst="roundRect">
              <a:avLst>
                <a:gd name="adj" fmla="val 2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1840" y="7696440"/>
              <a:ext cx="482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686480" y="6502320"/>
            <a:ext cx="1062000" cy="754200"/>
            <a:chOff x="4686480" y="6502320"/>
            <a:chExt cx="1062000" cy="754200"/>
          </a:xfrm>
        </p:grpSpPr>
        <p:sp>
          <p:nvSpPr>
            <p:cNvPr id="107" name=""/>
            <p:cNvSpPr/>
            <p:nvPr/>
          </p:nvSpPr>
          <p:spPr>
            <a:xfrm>
              <a:off x="4686480" y="6502320"/>
              <a:ext cx="1062000" cy="754200"/>
            </a:xfrm>
            <a:prstGeom prst="roundRect">
              <a:avLst>
                <a:gd name="adj" fmla="val 2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25600" y="6680520"/>
              <a:ext cx="383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840240" y="6669360"/>
            <a:ext cx="581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5994360"/>
            <a:ext cx="3086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6807240"/>
            <a:ext cx="3086280" cy="1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600200" y="6908760"/>
            <a:ext cx="3086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964520" y="5791320"/>
            <a:ext cx="700200" cy="608040"/>
            <a:chOff x="1964520" y="5791320"/>
            <a:chExt cx="700200" cy="608040"/>
          </a:xfrm>
        </p:grpSpPr>
        <p:sp>
          <p:nvSpPr>
            <p:cNvPr id="114" name=""/>
            <p:cNvSpPr/>
            <p:nvPr/>
          </p:nvSpPr>
          <p:spPr>
            <a:xfrm>
              <a:off x="2000160" y="5791320"/>
              <a:ext cx="627120" cy="608040"/>
            </a:xfrm>
            <a:prstGeom prst="roundRect">
              <a:avLst>
                <a:gd name="adj" fmla="val 2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64520" y="5835960"/>
              <a:ext cx="700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DAP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964520" y="6603840"/>
            <a:ext cx="700200" cy="608040"/>
            <a:chOff x="1964520" y="6603840"/>
            <a:chExt cx="700200" cy="608040"/>
          </a:xfrm>
        </p:grpSpPr>
        <p:sp>
          <p:nvSpPr>
            <p:cNvPr id="117" name=""/>
            <p:cNvSpPr/>
            <p:nvPr/>
          </p:nvSpPr>
          <p:spPr>
            <a:xfrm>
              <a:off x="2000160" y="6603840"/>
              <a:ext cx="627120" cy="608040"/>
            </a:xfrm>
            <a:prstGeom prst="roundRect">
              <a:avLst>
                <a:gd name="adj" fmla="val 2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64520" y="6649200"/>
              <a:ext cx="700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DAP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964520" y="7518240"/>
            <a:ext cx="700200" cy="608040"/>
            <a:chOff x="1964520" y="7518240"/>
            <a:chExt cx="700200" cy="608040"/>
          </a:xfrm>
        </p:grpSpPr>
        <p:sp>
          <p:nvSpPr>
            <p:cNvPr id="120" name=""/>
            <p:cNvSpPr/>
            <p:nvPr/>
          </p:nvSpPr>
          <p:spPr>
            <a:xfrm>
              <a:off x="2000160" y="7518240"/>
              <a:ext cx="627120" cy="608040"/>
            </a:xfrm>
            <a:prstGeom prst="roundRect">
              <a:avLst>
                <a:gd name="adj" fmla="val 2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64520" y="7563600"/>
              <a:ext cx="700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DAP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7200" y="4775040"/>
            <a:ext cx="1830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sts of CS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8120" y="5043240"/>
            <a:ext cx="2815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DAP data stored on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2440" y="5667840"/>
            <a:ext cx="1629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DAP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84600" y="4134240"/>
            <a:ext cx="579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 Mounted by Hosts in the CS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0120" y="8305200"/>
            <a:ext cx="601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accessed by the hosts from the LD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ory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92520" y="-37800"/>
            <a:ext cx="690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antages of using LDAP as backend to 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8440" y="201240"/>
            <a:ext cx="5101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DAP provides replication of directory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049480" y="990720"/>
            <a:ext cx="1311120" cy="963360"/>
            <a:chOff x="2049480" y="990720"/>
            <a:chExt cx="1311120" cy="963360"/>
          </a:xfrm>
        </p:grpSpPr>
        <p:sp>
          <p:nvSpPr>
            <p:cNvPr id="130" name=""/>
            <p:cNvSpPr/>
            <p:nvPr/>
          </p:nvSpPr>
          <p:spPr>
            <a:xfrm>
              <a:off x="2057400" y="990720"/>
              <a:ext cx="1293840" cy="963360"/>
            </a:xfrm>
            <a:prstGeom prst="roundRect">
              <a:avLst>
                <a:gd name="adj" fmla="val 16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49480" y="1151640"/>
              <a:ext cx="131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648320" y="2362320"/>
            <a:ext cx="1027080" cy="608040"/>
            <a:chOff x="4648320" y="2362320"/>
            <a:chExt cx="1027080" cy="608040"/>
          </a:xfrm>
        </p:grpSpPr>
        <p:sp>
          <p:nvSpPr>
            <p:cNvPr id="133" name=""/>
            <p:cNvSpPr/>
            <p:nvPr/>
          </p:nvSpPr>
          <p:spPr>
            <a:xfrm>
              <a:off x="4648320" y="2362320"/>
              <a:ext cx="1027080" cy="608040"/>
            </a:xfrm>
            <a:prstGeom prst="roundRect">
              <a:avLst>
                <a:gd name="adj" fmla="val 2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59200" y="2482920"/>
              <a:ext cx="805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lurp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29960" y="2438280"/>
            <a:ext cx="1491120" cy="608040"/>
            <a:chOff x="129960" y="2438280"/>
            <a:chExt cx="1491120" cy="608040"/>
          </a:xfrm>
        </p:grpSpPr>
        <p:sp>
          <p:nvSpPr>
            <p:cNvPr id="136" name=""/>
            <p:cNvSpPr/>
            <p:nvPr/>
          </p:nvSpPr>
          <p:spPr>
            <a:xfrm>
              <a:off x="152280" y="2438280"/>
              <a:ext cx="1446480" cy="608040"/>
            </a:xfrm>
            <a:prstGeom prst="roundRect">
              <a:avLst>
                <a:gd name="adj" fmla="val 2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960" y="2559600"/>
              <a:ext cx="1491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ter slap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05520" y="4419720"/>
            <a:ext cx="1522440" cy="608040"/>
            <a:chOff x="5105520" y="4419720"/>
            <a:chExt cx="1522440" cy="608040"/>
          </a:xfrm>
        </p:grpSpPr>
        <p:sp>
          <p:nvSpPr>
            <p:cNvPr id="139" name=""/>
            <p:cNvSpPr/>
            <p:nvPr/>
          </p:nvSpPr>
          <p:spPr>
            <a:xfrm>
              <a:off x="5105520" y="4419720"/>
              <a:ext cx="1522440" cy="608040"/>
            </a:xfrm>
            <a:prstGeom prst="roundRect">
              <a:avLst>
                <a:gd name="adj" fmla="val 2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03800" y="4540320"/>
              <a:ext cx="1325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lave slap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28600" y="4343400"/>
            <a:ext cx="1446120" cy="608040"/>
            <a:chOff x="228600" y="4343400"/>
            <a:chExt cx="1446120" cy="608040"/>
          </a:xfrm>
        </p:grpSpPr>
        <p:sp>
          <p:nvSpPr>
            <p:cNvPr id="142" name=""/>
            <p:cNvSpPr/>
            <p:nvPr/>
          </p:nvSpPr>
          <p:spPr>
            <a:xfrm>
              <a:off x="228600" y="4343400"/>
              <a:ext cx="1446120" cy="608040"/>
            </a:xfrm>
            <a:prstGeom prst="roundRect">
              <a:avLst>
                <a:gd name="adj" fmla="val 2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3880" y="4464000"/>
              <a:ext cx="137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DAP 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 flipV="1">
            <a:off x="762120" y="3048120"/>
            <a:ext cx="171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09480" y="1447920"/>
            <a:ext cx="1447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447920"/>
            <a:ext cx="1752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2971800"/>
            <a:ext cx="6098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990680" y="2971800"/>
            <a:ext cx="190440" cy="25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44040" y="7236360"/>
            <a:ext cx="423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DAP server with two rep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952880" y="5486400"/>
            <a:ext cx="1522440" cy="608040"/>
            <a:chOff x="4952880" y="5486400"/>
            <a:chExt cx="1522440" cy="608040"/>
          </a:xfrm>
        </p:grpSpPr>
        <p:sp>
          <p:nvSpPr>
            <p:cNvPr id="151" name=""/>
            <p:cNvSpPr/>
            <p:nvPr/>
          </p:nvSpPr>
          <p:spPr>
            <a:xfrm>
              <a:off x="4952880" y="5486400"/>
              <a:ext cx="1522440" cy="608040"/>
            </a:xfrm>
            <a:prstGeom prst="roundRect">
              <a:avLst>
                <a:gd name="adj" fmla="val 2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51520" y="5607000"/>
              <a:ext cx="1325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lave slap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28600" y="5791320"/>
            <a:ext cx="1446120" cy="608040"/>
            <a:chOff x="228600" y="5791320"/>
            <a:chExt cx="1446120" cy="608040"/>
          </a:xfrm>
        </p:grpSpPr>
        <p:sp>
          <p:nvSpPr>
            <p:cNvPr id="154" name=""/>
            <p:cNvSpPr/>
            <p:nvPr/>
          </p:nvSpPr>
          <p:spPr>
            <a:xfrm>
              <a:off x="228600" y="5791320"/>
              <a:ext cx="1446120" cy="608040"/>
            </a:xfrm>
            <a:prstGeom prst="roundRect">
              <a:avLst>
                <a:gd name="adj" fmla="val 2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880" y="5911920"/>
              <a:ext cx="1376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DAP 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V="1">
            <a:off x="1676520" y="5791320"/>
            <a:ext cx="3276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54920" y="227520"/>
            <a:ext cx="333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ing LDAP with 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762120"/>
            <a:ext cx="670392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 data in hierarchical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level 0, virtual root  is 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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=cs.uky.edu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level 1, store all the relations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N: cn=Relations, o=cs.uky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level 2, store the scheme of all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N: RelationName=Hosts, cn=Relations, o=cs.uky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level 3, store the data of re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N: FullHostName=al.cs.uky.edu, RelationName=Hosts, cn=Relations, o=cs.uky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095880"/>
            <a:ext cx="61945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current implementation, attributes in the scheme are defined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ttribute "FullHostName"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escription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fully domain qualified host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hecktype =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4000" y="-1080"/>
            <a:ext cx="333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ing LDAP with 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680" y="762120"/>
            <a:ext cx="619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ttribute "Address"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escription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Internet add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hecktype =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325680"/>
            <a:ext cx="685656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my implementation, to distinguish between 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type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other attributes, I add the attribute na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lationName=Hosts, cn=Relations, o=cs.uky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ttributename=FullHo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escription=FullHo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fully domain qualified host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hecktype=FullHo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ttributename=Add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escription= Add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fully domain qualified host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hecktype= Add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120" y="-1080"/>
            <a:ext cx="68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verview of current Implementation of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ab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50640" y="609480"/>
            <a:ext cx="3333600" cy="379440"/>
            <a:chOff x="350640" y="609480"/>
            <a:chExt cx="3333600" cy="379440"/>
          </a:xfrm>
        </p:grpSpPr>
        <p:sp>
          <p:nvSpPr>
            <p:cNvPr id="165" name=""/>
            <p:cNvSpPr/>
            <p:nvPr/>
          </p:nvSpPr>
          <p:spPr>
            <a:xfrm>
              <a:off x="380880" y="609480"/>
              <a:ext cx="3275280" cy="379440"/>
            </a:xfrm>
            <a:prstGeom prst="roundRect">
              <a:avLst>
                <a:gd name="adj" fmla="val 4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0640" y="616680"/>
              <a:ext cx="3333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ata stored at /usr/local/etc/s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3520" y="1676520"/>
            <a:ext cx="3008160" cy="404640"/>
            <a:chOff x="533520" y="1676520"/>
            <a:chExt cx="3008160" cy="404640"/>
          </a:xfrm>
        </p:grpSpPr>
        <p:sp>
          <p:nvSpPr>
            <p:cNvPr id="168" name=""/>
            <p:cNvSpPr/>
            <p:nvPr/>
          </p:nvSpPr>
          <p:spPr>
            <a:xfrm>
              <a:off x="533520" y="1676520"/>
              <a:ext cx="3008160" cy="404640"/>
            </a:xfrm>
            <a:prstGeom prst="roundRect">
              <a:avLst>
                <a:gd name="adj" fmla="val 3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25280" y="1695240"/>
              <a:ext cx="2024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ditable ASCII 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04920" y="7315200"/>
            <a:ext cx="4646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Tabedi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s ReadScheme(), ReadRow(), and DumpAsciiData() to access the data and the sche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19320" y="2514600"/>
            <a:ext cx="1198440" cy="1522440"/>
            <a:chOff x="1219320" y="2514600"/>
            <a:chExt cx="1198440" cy="1522440"/>
          </a:xfrm>
        </p:grpSpPr>
        <p:sp>
          <p:nvSpPr>
            <p:cNvPr id="172" name=""/>
            <p:cNvSpPr/>
            <p:nvPr/>
          </p:nvSpPr>
          <p:spPr>
            <a:xfrm>
              <a:off x="1219320" y="2514600"/>
              <a:ext cx="1198440" cy="1522440"/>
            </a:xfrm>
            <a:custGeom>
              <a:avLst/>
              <a:gdLst/>
              <a:ahLst/>
              <a:rect l="l" t="t" r="r" b="b"/>
              <a:pathLst>
                <a:path w="3334" h="4234">
                  <a:moveTo>
                    <a:pt x="1667" y="0"/>
                  </a:moveTo>
                  <a:lnTo>
                    <a:pt x="3333" y="2115"/>
                  </a:lnTo>
                  <a:lnTo>
                    <a:pt x="1667" y="4233"/>
                  </a:lnTo>
                  <a:lnTo>
                    <a:pt x="0" y="2115"/>
                  </a:lnTo>
                  <a:lnTo>
                    <a:pt x="1667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51000" y="2986200"/>
              <a:ext cx="1134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Valid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ucces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04920" y="5105520"/>
            <a:ext cx="3884760" cy="455400"/>
            <a:chOff x="304920" y="5105520"/>
            <a:chExt cx="3884760" cy="455400"/>
          </a:xfrm>
        </p:grpSpPr>
        <p:sp>
          <p:nvSpPr>
            <p:cNvPr id="175" name=""/>
            <p:cNvSpPr/>
            <p:nvPr/>
          </p:nvSpPr>
          <p:spPr>
            <a:xfrm>
              <a:off x="304920" y="5105520"/>
              <a:ext cx="3884400" cy="4554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6000" y="5149800"/>
              <a:ext cx="3883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build relation and replace data 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828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89760" y="6369120"/>
            <a:ext cx="590400" cy="366840"/>
            <a:chOff x="1589760" y="6369120"/>
            <a:chExt cx="590400" cy="366840"/>
          </a:xfrm>
        </p:grpSpPr>
        <p:sp>
          <p:nvSpPr>
            <p:cNvPr id="179" name=""/>
            <p:cNvSpPr/>
            <p:nvPr/>
          </p:nvSpPr>
          <p:spPr>
            <a:xfrm>
              <a:off x="1600200" y="6400800"/>
              <a:ext cx="569880" cy="303120"/>
            </a:xfrm>
            <a:custGeom>
              <a:avLst/>
              <a:gdLst/>
              <a:ahLst/>
              <a:rect l="l" t="t" r="r" b="b"/>
              <a:pathLst>
                <a:path w="1589" h="848">
                  <a:moveTo>
                    <a:pt x="1112" y="0"/>
                  </a:moveTo>
                  <a:lnTo>
                    <a:pt x="1168" y="2"/>
                  </a:lnTo>
                  <a:lnTo>
                    <a:pt x="1224" y="7"/>
                  </a:lnTo>
                  <a:lnTo>
                    <a:pt x="1280" y="16"/>
                  </a:lnTo>
                  <a:lnTo>
                    <a:pt x="1334" y="29"/>
                  </a:lnTo>
                  <a:lnTo>
                    <a:pt x="1383" y="44"/>
                  </a:lnTo>
                  <a:lnTo>
                    <a:pt x="1426" y="64"/>
                  </a:lnTo>
                  <a:lnTo>
                    <a:pt x="1469" y="85"/>
                  </a:lnTo>
                  <a:lnTo>
                    <a:pt x="1502" y="110"/>
                  </a:lnTo>
                  <a:lnTo>
                    <a:pt x="1532" y="136"/>
                  </a:lnTo>
                  <a:lnTo>
                    <a:pt x="1559" y="164"/>
                  </a:lnTo>
                  <a:lnTo>
                    <a:pt x="1575" y="192"/>
                  </a:lnTo>
                  <a:lnTo>
                    <a:pt x="1585" y="222"/>
                  </a:lnTo>
                  <a:lnTo>
                    <a:pt x="1588" y="254"/>
                  </a:lnTo>
                  <a:lnTo>
                    <a:pt x="1588" y="593"/>
                  </a:lnTo>
                  <a:lnTo>
                    <a:pt x="1585" y="623"/>
                  </a:lnTo>
                  <a:lnTo>
                    <a:pt x="1575" y="653"/>
                  </a:lnTo>
                  <a:lnTo>
                    <a:pt x="1559" y="682"/>
                  </a:lnTo>
                  <a:lnTo>
                    <a:pt x="1536" y="711"/>
                  </a:lnTo>
                  <a:lnTo>
                    <a:pt x="1506" y="737"/>
                  </a:lnTo>
                  <a:lnTo>
                    <a:pt x="1469" y="760"/>
                  </a:lnTo>
                  <a:lnTo>
                    <a:pt x="1430" y="783"/>
                  </a:lnTo>
                  <a:lnTo>
                    <a:pt x="1383" y="801"/>
                  </a:lnTo>
                  <a:lnTo>
                    <a:pt x="1334" y="817"/>
                  </a:lnTo>
                  <a:lnTo>
                    <a:pt x="1280" y="831"/>
                  </a:lnTo>
                  <a:lnTo>
                    <a:pt x="1228" y="840"/>
                  </a:lnTo>
                  <a:lnTo>
                    <a:pt x="1168" y="845"/>
                  </a:lnTo>
                  <a:lnTo>
                    <a:pt x="1112" y="847"/>
                  </a:lnTo>
                  <a:lnTo>
                    <a:pt x="476" y="847"/>
                  </a:lnTo>
                  <a:lnTo>
                    <a:pt x="420" y="845"/>
                  </a:lnTo>
                  <a:lnTo>
                    <a:pt x="364" y="840"/>
                  </a:lnTo>
                  <a:lnTo>
                    <a:pt x="307" y="831"/>
                  </a:lnTo>
                  <a:lnTo>
                    <a:pt x="254" y="819"/>
                  </a:lnTo>
                  <a:lnTo>
                    <a:pt x="206" y="803"/>
                  </a:lnTo>
                  <a:lnTo>
                    <a:pt x="162" y="783"/>
                  </a:lnTo>
                  <a:lnTo>
                    <a:pt x="119" y="762"/>
                  </a:lnTo>
                  <a:lnTo>
                    <a:pt x="86" y="737"/>
                  </a:lnTo>
                  <a:lnTo>
                    <a:pt x="56" y="711"/>
                  </a:lnTo>
                  <a:lnTo>
                    <a:pt x="29" y="682"/>
                  </a:lnTo>
                  <a:lnTo>
                    <a:pt x="13" y="655"/>
                  </a:lnTo>
                  <a:lnTo>
                    <a:pt x="3" y="623"/>
                  </a:lnTo>
                  <a:lnTo>
                    <a:pt x="0" y="593"/>
                  </a:lnTo>
                  <a:lnTo>
                    <a:pt x="0" y="254"/>
                  </a:lnTo>
                  <a:lnTo>
                    <a:pt x="3" y="224"/>
                  </a:lnTo>
                  <a:lnTo>
                    <a:pt x="13" y="194"/>
                  </a:lnTo>
                  <a:lnTo>
                    <a:pt x="29" y="164"/>
                  </a:lnTo>
                  <a:lnTo>
                    <a:pt x="53" y="136"/>
                  </a:lnTo>
                  <a:lnTo>
                    <a:pt x="83" y="110"/>
                  </a:lnTo>
                  <a:lnTo>
                    <a:pt x="119" y="87"/>
                  </a:lnTo>
                  <a:lnTo>
                    <a:pt x="159" y="64"/>
                  </a:lnTo>
                  <a:lnTo>
                    <a:pt x="206" y="46"/>
                  </a:lnTo>
                  <a:lnTo>
                    <a:pt x="254" y="30"/>
                  </a:lnTo>
                  <a:lnTo>
                    <a:pt x="307" y="16"/>
                  </a:lnTo>
                  <a:lnTo>
                    <a:pt x="361" y="7"/>
                  </a:lnTo>
                  <a:lnTo>
                    <a:pt x="420" y="2"/>
                  </a:lnTo>
                  <a:lnTo>
                    <a:pt x="476" y="0"/>
                  </a:lnTo>
                  <a:lnTo>
                    <a:pt x="111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89760" y="6369120"/>
              <a:ext cx="590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 flipV="1">
            <a:off x="1828800" y="990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390960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/>
          <p:nvPr/>
        </p:nvCxnSpPr>
        <p:spPr>
          <a:xfrm>
            <a:off x="2418840" y="3276720"/>
            <a:ext cx="839160" cy="9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184" name=""/>
          <p:cNvGrpSpPr/>
          <p:nvPr/>
        </p:nvGrpSpPr>
        <p:grpSpPr>
          <a:xfrm>
            <a:off x="2438280" y="4159080"/>
            <a:ext cx="2818080" cy="366840"/>
            <a:chOff x="2438280" y="4159080"/>
            <a:chExt cx="2818080" cy="366840"/>
          </a:xfrm>
        </p:grpSpPr>
        <p:sp>
          <p:nvSpPr>
            <p:cNvPr id="185" name=""/>
            <p:cNvSpPr/>
            <p:nvPr/>
          </p:nvSpPr>
          <p:spPr>
            <a:xfrm>
              <a:off x="2438280" y="4191120"/>
              <a:ext cx="2818080" cy="303120"/>
            </a:xfrm>
            <a:prstGeom prst="roundRect">
              <a:avLst>
                <a:gd name="adj" fmla="val 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75360" y="4159080"/>
              <a:ext cx="2745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iscard changes and ex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361960" y="289512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4038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5562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97720" y="-1080"/>
            <a:ext cx="623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verview of my Implementation of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ab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71360" y="609480"/>
            <a:ext cx="3789360" cy="455760"/>
            <a:chOff x="171360" y="609480"/>
            <a:chExt cx="3789360" cy="455760"/>
          </a:xfrm>
        </p:grpSpPr>
        <p:sp>
          <p:nvSpPr>
            <p:cNvPr id="192" name=""/>
            <p:cNvSpPr/>
            <p:nvPr/>
          </p:nvSpPr>
          <p:spPr>
            <a:xfrm>
              <a:off x="171360" y="609480"/>
              <a:ext cx="3789360" cy="4557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4960" y="653760"/>
              <a:ext cx="3420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ata stored on the LDAP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4" name=""/>
          <p:cNvCxnSpPr/>
          <p:nvPr/>
        </p:nvCxnSpPr>
        <p:spPr>
          <a:xfrm>
            <a:off x="1828440" y="1066680"/>
            <a:ext cx="108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195" name=""/>
          <p:cNvGrpSpPr/>
          <p:nvPr/>
        </p:nvGrpSpPr>
        <p:grpSpPr>
          <a:xfrm>
            <a:off x="0" y="1665360"/>
            <a:ext cx="4017960" cy="455400"/>
            <a:chOff x="0" y="1665360"/>
            <a:chExt cx="4017960" cy="455400"/>
          </a:xfrm>
        </p:grpSpPr>
        <p:sp>
          <p:nvSpPr>
            <p:cNvPr id="196" name=""/>
            <p:cNvSpPr/>
            <p:nvPr/>
          </p:nvSpPr>
          <p:spPr>
            <a:xfrm>
              <a:off x="0" y="1665360"/>
              <a:ext cx="4017960" cy="4554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7520" y="1709640"/>
              <a:ext cx="320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ditable ASCII file and a cop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219320" y="2666880"/>
            <a:ext cx="1198440" cy="1598760"/>
            <a:chOff x="1219320" y="2666880"/>
            <a:chExt cx="1198440" cy="1598760"/>
          </a:xfrm>
        </p:grpSpPr>
        <p:sp>
          <p:nvSpPr>
            <p:cNvPr id="199" name=""/>
            <p:cNvSpPr/>
            <p:nvPr/>
          </p:nvSpPr>
          <p:spPr>
            <a:xfrm>
              <a:off x="1219320" y="2666880"/>
              <a:ext cx="1198440" cy="1598760"/>
            </a:xfrm>
            <a:custGeom>
              <a:avLst/>
              <a:gdLst/>
              <a:ahLst/>
              <a:rect l="l" t="t" r="r" b="b"/>
              <a:pathLst>
                <a:path w="3334" h="4446">
                  <a:moveTo>
                    <a:pt x="1667" y="0"/>
                  </a:moveTo>
                  <a:lnTo>
                    <a:pt x="3333" y="2221"/>
                  </a:lnTo>
                  <a:lnTo>
                    <a:pt x="1667" y="4445"/>
                  </a:lnTo>
                  <a:lnTo>
                    <a:pt x="0" y="2221"/>
                  </a:lnTo>
                  <a:lnTo>
                    <a:pt x="1667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51000" y="3176640"/>
              <a:ext cx="1134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Valid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ucces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828800" y="213372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/>
          <p:nvPr/>
        </p:nvCxnSpPr>
        <p:spPr>
          <a:xfrm>
            <a:off x="2437920" y="3428640"/>
            <a:ext cx="83916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03" name=""/>
          <p:cNvSpPr/>
          <p:nvPr/>
        </p:nvSpPr>
        <p:spPr>
          <a:xfrm>
            <a:off x="2437560" y="297180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52280" y="5105520"/>
            <a:ext cx="4418280" cy="455400"/>
            <a:chOff x="152280" y="5105520"/>
            <a:chExt cx="4418280" cy="455400"/>
          </a:xfrm>
        </p:grpSpPr>
        <p:sp>
          <p:nvSpPr>
            <p:cNvPr id="205" name=""/>
            <p:cNvSpPr/>
            <p:nvPr/>
          </p:nvSpPr>
          <p:spPr>
            <a:xfrm>
              <a:off x="152280" y="5105520"/>
              <a:ext cx="4418280" cy="4554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2840" y="5149800"/>
              <a:ext cx="4277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ake a </a:t>
              </a:r>
              <a:r>
                <a:rPr b="0" lang="en-GB" sz="1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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iff</a:t>
              </a:r>
              <a:r>
                <a:rPr b="0" lang="en-GB" sz="1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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modified file &amp; original 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28600" y="6172200"/>
            <a:ext cx="3656160" cy="455760"/>
            <a:chOff x="228600" y="6172200"/>
            <a:chExt cx="3656160" cy="455760"/>
          </a:xfrm>
        </p:grpSpPr>
        <p:sp>
          <p:nvSpPr>
            <p:cNvPr id="208" name=""/>
            <p:cNvSpPr/>
            <p:nvPr/>
          </p:nvSpPr>
          <p:spPr>
            <a:xfrm>
              <a:off x="228600" y="6172200"/>
              <a:ext cx="3656160" cy="4557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6120" y="6216480"/>
              <a:ext cx="355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arch for changes in the Diff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28600" y="7146000"/>
            <a:ext cx="4646520" cy="641160"/>
            <a:chOff x="228600" y="7146000"/>
            <a:chExt cx="4646520" cy="641160"/>
          </a:xfrm>
        </p:grpSpPr>
        <p:sp>
          <p:nvSpPr>
            <p:cNvPr id="211" name=""/>
            <p:cNvSpPr/>
            <p:nvPr/>
          </p:nvSpPr>
          <p:spPr>
            <a:xfrm>
              <a:off x="228600" y="7162920"/>
              <a:ext cx="4646520" cy="608040"/>
            </a:xfrm>
            <a:prstGeom prst="roundRect">
              <a:avLst>
                <a:gd name="adj" fmla="val 2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0520" y="7146000"/>
              <a:ext cx="4522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ack up modified tuple and extract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odified tuple to update data on th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828800" y="5562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7772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362320" y="4006800"/>
            <a:ext cx="2817720" cy="366840"/>
            <a:chOff x="2362320" y="4006800"/>
            <a:chExt cx="2817720" cy="366840"/>
          </a:xfrm>
        </p:grpSpPr>
        <p:sp>
          <p:nvSpPr>
            <p:cNvPr id="217" name=""/>
            <p:cNvSpPr/>
            <p:nvPr/>
          </p:nvSpPr>
          <p:spPr>
            <a:xfrm>
              <a:off x="2362320" y="4038480"/>
              <a:ext cx="2817720" cy="303480"/>
            </a:xfrm>
            <a:prstGeom prst="roundRect">
              <a:avLst>
                <a:gd name="adj" fmla="val 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99040" y="4006800"/>
              <a:ext cx="2745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iscard changes and ex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828800" y="6629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589760" y="8197920"/>
            <a:ext cx="590400" cy="366840"/>
            <a:chOff x="1589760" y="8197920"/>
            <a:chExt cx="590400" cy="366840"/>
          </a:xfrm>
        </p:grpSpPr>
        <p:sp>
          <p:nvSpPr>
            <p:cNvPr id="221" name=""/>
            <p:cNvSpPr/>
            <p:nvPr/>
          </p:nvSpPr>
          <p:spPr>
            <a:xfrm>
              <a:off x="1600200" y="8229600"/>
              <a:ext cx="569880" cy="303120"/>
            </a:xfrm>
            <a:custGeom>
              <a:avLst/>
              <a:gdLst/>
              <a:ahLst/>
              <a:rect l="l" t="t" r="r" b="b"/>
              <a:pathLst>
                <a:path w="1589" h="848">
                  <a:moveTo>
                    <a:pt x="1112" y="0"/>
                  </a:moveTo>
                  <a:lnTo>
                    <a:pt x="1168" y="2"/>
                  </a:lnTo>
                  <a:lnTo>
                    <a:pt x="1224" y="7"/>
                  </a:lnTo>
                  <a:lnTo>
                    <a:pt x="1280" y="16"/>
                  </a:lnTo>
                  <a:lnTo>
                    <a:pt x="1334" y="29"/>
                  </a:lnTo>
                  <a:lnTo>
                    <a:pt x="1383" y="44"/>
                  </a:lnTo>
                  <a:lnTo>
                    <a:pt x="1426" y="64"/>
                  </a:lnTo>
                  <a:lnTo>
                    <a:pt x="1469" y="85"/>
                  </a:lnTo>
                  <a:lnTo>
                    <a:pt x="1502" y="110"/>
                  </a:lnTo>
                  <a:lnTo>
                    <a:pt x="1532" y="136"/>
                  </a:lnTo>
                  <a:lnTo>
                    <a:pt x="1559" y="164"/>
                  </a:lnTo>
                  <a:lnTo>
                    <a:pt x="1575" y="192"/>
                  </a:lnTo>
                  <a:lnTo>
                    <a:pt x="1585" y="222"/>
                  </a:lnTo>
                  <a:lnTo>
                    <a:pt x="1588" y="254"/>
                  </a:lnTo>
                  <a:lnTo>
                    <a:pt x="1588" y="593"/>
                  </a:lnTo>
                  <a:lnTo>
                    <a:pt x="1585" y="623"/>
                  </a:lnTo>
                  <a:lnTo>
                    <a:pt x="1575" y="653"/>
                  </a:lnTo>
                  <a:lnTo>
                    <a:pt x="1559" y="682"/>
                  </a:lnTo>
                  <a:lnTo>
                    <a:pt x="1536" y="711"/>
                  </a:lnTo>
                  <a:lnTo>
                    <a:pt x="1506" y="737"/>
                  </a:lnTo>
                  <a:lnTo>
                    <a:pt x="1469" y="760"/>
                  </a:lnTo>
                  <a:lnTo>
                    <a:pt x="1430" y="783"/>
                  </a:lnTo>
                  <a:lnTo>
                    <a:pt x="1383" y="801"/>
                  </a:lnTo>
                  <a:lnTo>
                    <a:pt x="1334" y="817"/>
                  </a:lnTo>
                  <a:lnTo>
                    <a:pt x="1280" y="831"/>
                  </a:lnTo>
                  <a:lnTo>
                    <a:pt x="1228" y="840"/>
                  </a:lnTo>
                  <a:lnTo>
                    <a:pt x="1168" y="845"/>
                  </a:lnTo>
                  <a:lnTo>
                    <a:pt x="1112" y="847"/>
                  </a:lnTo>
                  <a:lnTo>
                    <a:pt x="476" y="847"/>
                  </a:lnTo>
                  <a:lnTo>
                    <a:pt x="420" y="845"/>
                  </a:lnTo>
                  <a:lnTo>
                    <a:pt x="364" y="840"/>
                  </a:lnTo>
                  <a:lnTo>
                    <a:pt x="307" y="831"/>
                  </a:lnTo>
                  <a:lnTo>
                    <a:pt x="254" y="819"/>
                  </a:lnTo>
                  <a:lnTo>
                    <a:pt x="206" y="803"/>
                  </a:lnTo>
                  <a:lnTo>
                    <a:pt x="162" y="783"/>
                  </a:lnTo>
                  <a:lnTo>
                    <a:pt x="119" y="762"/>
                  </a:lnTo>
                  <a:lnTo>
                    <a:pt x="86" y="737"/>
                  </a:lnTo>
                  <a:lnTo>
                    <a:pt x="56" y="711"/>
                  </a:lnTo>
                  <a:lnTo>
                    <a:pt x="29" y="682"/>
                  </a:lnTo>
                  <a:lnTo>
                    <a:pt x="13" y="655"/>
                  </a:lnTo>
                  <a:lnTo>
                    <a:pt x="3" y="623"/>
                  </a:lnTo>
                  <a:lnTo>
                    <a:pt x="0" y="593"/>
                  </a:lnTo>
                  <a:lnTo>
                    <a:pt x="0" y="254"/>
                  </a:lnTo>
                  <a:lnTo>
                    <a:pt x="3" y="224"/>
                  </a:lnTo>
                  <a:lnTo>
                    <a:pt x="13" y="194"/>
                  </a:lnTo>
                  <a:lnTo>
                    <a:pt x="29" y="164"/>
                  </a:lnTo>
                  <a:lnTo>
                    <a:pt x="53" y="136"/>
                  </a:lnTo>
                  <a:lnTo>
                    <a:pt x="83" y="110"/>
                  </a:lnTo>
                  <a:lnTo>
                    <a:pt x="119" y="87"/>
                  </a:lnTo>
                  <a:lnTo>
                    <a:pt x="159" y="64"/>
                  </a:lnTo>
                  <a:lnTo>
                    <a:pt x="206" y="46"/>
                  </a:lnTo>
                  <a:lnTo>
                    <a:pt x="254" y="30"/>
                  </a:lnTo>
                  <a:lnTo>
                    <a:pt x="307" y="16"/>
                  </a:lnTo>
                  <a:lnTo>
                    <a:pt x="361" y="7"/>
                  </a:lnTo>
                  <a:lnTo>
                    <a:pt x="420" y="2"/>
                  </a:lnTo>
                  <a:lnTo>
                    <a:pt x="476" y="0"/>
                  </a:lnTo>
                  <a:lnTo>
                    <a:pt x="111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89760" y="8197920"/>
              <a:ext cx="590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428840" y="227520"/>
            <a:ext cx="370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ended Directo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63720"/>
            <a:ext cx="66279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ckup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abedi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res the modified tuples in a backup sub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N for the backup subtree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N: RelationName=xxxx, cn=Backups, o=cs.uky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xx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modified relation in th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925880"/>
            <a:ext cx="66279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ocks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DAP directory tree also maintains locks for the re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N for the lock subtree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N: RelationName=xxxx, cn=Locks, o=cs.uky.ed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xxx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name of the relation using the 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-11880" y="1978920"/>
            <a:ext cx="630360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view of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System Administrators Tool (S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SAT in the Computer Science depart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Lightweight Directory Access Protoc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LD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antages of using LDAP as a backend to S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zation of SAT database in LD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13680" y="114840"/>
            <a:ext cx="157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658800"/>
            <a:ext cx="6856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I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dap_in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) initiates a TCP connection to the LDAP serv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dap_sear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) searches for an attribute within the scope of the tree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dap_get_valu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) returns the values of the attribute provided as a parameter to the ca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dap_mod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y() modifies the attributes and D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API calls are available with OpenLDAP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181480"/>
            <a:ext cx="6753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l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 runs the relation-specific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rogram to generate/update configuration fi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rograms are written in Perl and are stored i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usr/local/etc/sat/db/&lt;relation name&gt;/report.p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modified th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tRecord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 and use Perl-LDAP interface modules to read the data from the LDAP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8600" y="-1080"/>
            <a:ext cx="4065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face with LDAP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762120"/>
            <a:ext cx="68565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formance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operations are as fast as the current implement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dates with my implementation may be s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date time depends on the number of modified tuples and the location of modified tu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773600"/>
            <a:ext cx="6856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hortcom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implementation does not use replication at this poi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curity aspect is not strong enough for deployment. A stronger authentication mechanism on the server is requi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4520" y="38520"/>
            <a:ext cx="1843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394640" y="202680"/>
            <a:ext cx="1989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27360" y="12942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679320" y="2269440"/>
            <a:ext cx="86612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scalable than the current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expand current directory tree to accommodat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minates requirement for NFS moun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use more enhanced tools to manage and access 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86120" y="6137280"/>
            <a:ext cx="3675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bove is misformatt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also has broken parallel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85800"/>
            <a:ext cx="618192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. Raphael Finkel, Brian Sturgill and Harlan Stenn developed the Sat packag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 database maintains centralized data and each host shares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DA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ghtweight Directory Access Protocol (LDAP) is an industry-standard protocol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DAP stores data on an LDAP server and each client retrieves that data from the LDAP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LDAP to store and manage SAT da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2200" y="-1080"/>
            <a:ext cx="3559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verview of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6040" y="152640"/>
            <a:ext cx="32742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ntroduction to S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762120"/>
            <a:ext cx="62960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is S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 is a UNIX administration tool that helps to maintain host-specific configuratio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etc/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etc/h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etc/hosts.equ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etc/pass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72000"/>
            <a:ext cx="64641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s database is composed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heme - describes a 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ble - contain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 are stored i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usr/local/etc/sat/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relation occupies a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the Hosts relation is stored i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sr/local/etc/sat/db/H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1240" y="24120"/>
            <a:ext cx="486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napshot of a tuple in a dat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080" y="826920"/>
            <a:ext cx="665784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ullHostName    = "rose.cs.engr.uky.edu</a:t>
            </a:r>
            <a:r>
              <a:rPr b="0" lang="en-GB" sz="1800" spc="-1" strike="noStrike">
                <a:solidFill>
                  <a:srgbClr val="000000"/>
                </a:solidFill>
                <a:latin typeface="StarBats"/>
                <a:ea typeface="StarBats"/>
              </a:rPr>
              <a:t>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ostName        = "ros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hortHostName   = "ros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therAliases    = "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dress = "128.163.146.86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SType  = "linux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SVer   = "2.2.16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chType        = "i586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scription    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ype: Micro-Computer Analy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wner: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d by: Multi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PU:        MCA 5987 UK A5698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Keyboard:   J9640085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nitor:    CB2-66AS008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cation        = "ANN 202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atClass        = "access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cure  = "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ailDest        = "satchmo.cs.engr.uky.edu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ostClass       = "CS STABLE STUDENT MULTILAB      INTEL LINUX</a:t>
            </a:r>
            <a:r>
              <a:rPr b="0" lang="en-GB" sz="1800" spc="-1" strike="noStrike">
                <a:solidFill>
                  <a:srgbClr val="000000"/>
                </a:solidFill>
                <a:latin typeface="StarBats"/>
                <a:ea typeface="StarBats"/>
              </a:rPr>
              <a:t>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therAddr       = "00:a0:24:e1:05:b8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8440" y="-1080"/>
            <a:ext cx="603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napshot of a relation in the schem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9720"/>
            <a:ext cx="6627960" cy="77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ata_from_prog = 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lation_description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ost description file.  General order: from most local to least loc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GB" sz="1800" spc="-1" strike="noStrike">
                <a:solidFill>
                  <a:srgbClr val="000000"/>
                </a:solidFill>
                <a:latin typeface="StarBats"/>
                <a:ea typeface="StarBats"/>
              </a:rPr>
              <a:t>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dex_attribute = "FullHostName</a:t>
            </a:r>
            <a:r>
              <a:rPr b="0" lang="en-GB" sz="1800" spc="-1" strike="noStrike">
                <a:solidFill>
                  <a:srgbClr val="000000"/>
                </a:solidFill>
                <a:latin typeface="StarBats"/>
                <a:ea typeface="StarBats"/>
              </a:rPr>
              <a:t>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ttribute "FullHostName" =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scription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fully domain qualified hostname.This is the primary name of the host in /etc/hos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ecktype =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tarBats"/>
                <a:ea typeface="StarBats"/>
              </a:rPr>
              <a:t>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ttribute "OSType" =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scription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operating system ty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ecktype =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attern_string = "^(ultrix|sequent|solaris|sun|sysv|mach|aix|dos|hpux|irix|linux|ncdX|osf1|bsdi|phaseX|OS/2|Win|NA)$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60720" y="4153680"/>
            <a:ext cx="6049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abedit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ad/modify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ched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to read/modify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ified tables are propagated to other hosts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hosts then run a relation-specific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17640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roduction to 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066680"/>
            <a:ext cx="4875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lication in S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licas are categorized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 re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usted re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py re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re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57560" y="43200"/>
            <a:ext cx="324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roduction to LD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600200"/>
            <a:ext cx="669600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DAP is a protocol to access directo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DAP version 2 defined in RFC 1777 and 1778 and  version 3 is defined in RFCs 2251 through 22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a directo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-purpos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access is much more frequent than updat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ly provides repl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DAPs role in director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lient-server protoco provides a way to name, manage and access attribu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DAP stores data in a hierarchical form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86280" y="1117440"/>
            <a:ext cx="1485720" cy="26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810720" y="1111320"/>
            <a:ext cx="2264040" cy="39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71880" y="2743200"/>
            <a:ext cx="74268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5080" y="873000"/>
            <a:ext cx="114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c=air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16000" y="2344680"/>
            <a:ext cx="137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=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07120" y="3717720"/>
            <a:ext cx="177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n=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69840" y="3921840"/>
            <a:ext cx="115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=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41360" y="4022640"/>
            <a:ext cx="115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=Eng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6080" y="5038560"/>
            <a:ext cx="14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d=bjen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3040" y="5079960"/>
            <a:ext cx="5544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2540160"/>
            <a:ext cx="5544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29040" y="1015920"/>
            <a:ext cx="5544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14360" y="4064040"/>
            <a:ext cx="5580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14560" y="4064040"/>
            <a:ext cx="5580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14640" y="2641680"/>
            <a:ext cx="5544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759120"/>
            <a:ext cx="5544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943600"/>
            <a:ext cx="6704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omain Compon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ganizational Uni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on Na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ser I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4480" y="81000"/>
            <a:ext cx="52599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xample of a directory struc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040" y="2360520"/>
            <a:ext cx="13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=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5:53:38Z</dcterms:created>
  <dc:creator>hhshah</dc:creator>
  <dc:description/>
  <dc:language>en-US</dc:language>
  <cp:lastModifiedBy> </cp:lastModifiedBy>
  <cp:lastPrinted>2000-06-27T22:36:01Z</cp:lastPrinted>
  <cp:revision>0</cp:revision>
  <dc:subject/>
  <dc:title>No Slide Title</dc:title>
</cp:coreProperties>
</file>