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3584-B66B-472A-B4D1-3AEA52F38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54B4-BAC1-4749-8FA3-8916E62E3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7C82-578D-43C0-BC55-6DFA5E7E9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6519-E210-4CCF-BCC9-9F8F1C1CC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850E-E051-43E6-8996-C3E1DA044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E7FC-6B5A-48B7-8BB2-4CE1A27C8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993B-1A96-4073-8621-AB6F87688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600E-CDFE-4BE0-84EF-F68AE23C7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0A4C-025B-4289-97B7-7CEFD2A8F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56A3-7FA8-4FF1-A5D7-81972E861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A9AE-8A6D-45BC-8969-94FCDCAB2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A154-F7E7-4D5A-B817-AB3E19A0E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30FF7-C6B8-45DF-AF22-1214DC79A4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76720" y="609480"/>
            <a:ext cx="148572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=cs.uky.ed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990880" y="2438280"/>
            <a:ext cx="148572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n=Backu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19320" y="2438280"/>
            <a:ext cx="148572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n=Loc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762440" y="2438280"/>
            <a:ext cx="148608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n=Rel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19600" y="4470480"/>
            <a:ext cx="17719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ionName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105000" y="4470480"/>
            <a:ext cx="17719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ionName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19000" y="4470480"/>
            <a:ext cx="17719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ionName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962520" y="1219320"/>
            <a:ext cx="137160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3562200" y="1219320"/>
            <a:ext cx="40032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1904760" y="1219320"/>
            <a:ext cx="205740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562720" y="3048120"/>
            <a:ext cx="971280" cy="142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62720" y="30481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5219280" y="3048120"/>
            <a:ext cx="343080" cy="101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733920" y="3048120"/>
            <a:ext cx="571320" cy="142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504960" y="3048120"/>
            <a:ext cx="228600" cy="711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733920" y="3048120"/>
            <a:ext cx="571320" cy="507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1733400" y="3048120"/>
            <a:ext cx="400320" cy="142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133720" y="3048120"/>
            <a:ext cx="342720" cy="711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1447560" y="3048120"/>
            <a:ext cx="685800" cy="711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65120" y="5283360"/>
            <a:ext cx="298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n: RelationName=Printer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n=Relations, o=cs.uky.ed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800" y="2057400"/>
            <a:ext cx="308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N: cn=Locks, o=cs.uky.ed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08000" y="0"/>
            <a:ext cx="370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tended Directory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444840" y="685800"/>
            <a:ext cx="16002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=cs.uky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444840" y="1600200"/>
            <a:ext cx="16002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n=Rel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44440" y="2743200"/>
            <a:ext cx="17524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ationName=Us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25520" y="2743200"/>
            <a:ext cx="17528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ationName=Hos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816440" y="2743200"/>
            <a:ext cx="19051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ationName=Mou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178760" y="2743200"/>
            <a:ext cx="18288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ationName=Prin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44440" y="5029200"/>
            <a:ext cx="1600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llHostName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.cs.uky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25520" y="5029200"/>
            <a:ext cx="175284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664160" y="5029200"/>
            <a:ext cx="16002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102440" y="5029200"/>
            <a:ext cx="16002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130640" y="1066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1006560" y="1981080"/>
            <a:ext cx="31240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3063600" y="1981080"/>
            <a:ext cx="99036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054320" y="1981080"/>
            <a:ext cx="152424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054320" y="1981080"/>
            <a:ext cx="388620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701640" y="3124080"/>
            <a:ext cx="220968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11320" y="3124080"/>
            <a:ext cx="7632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911320" y="3124080"/>
            <a:ext cx="243864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911320" y="3124080"/>
            <a:ext cx="487692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097600" y="168768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N: cn=Relations, o=cs.uky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3135240"/>
            <a:ext cx="2438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N:RelationName=users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n=Relations, o=cs.uky.ed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781680" y="3200400"/>
            <a:ext cx="2590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_from_prog=fal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r_alias_file=/usr/local/etc/sat/lib/useralias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t_alias_file=/usr/local/etc/sat/lib/distalias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01840" y="50292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llHostName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ronte.cs.uky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664160" y="50292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llHostName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ly.cs.uky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102440" y="50292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llHostName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ose.cs.uky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-6480" y="5791320"/>
            <a:ext cx="3056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N: FullHostName=al.cs.uky.edu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ationName=Hosts, cn=Relations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=cs.uky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489560" y="5562720"/>
            <a:ext cx="21603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stName=li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horthostname=l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ess=128.163.146.7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stype=lin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sver=2.2.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983960" y="152280"/>
            <a:ext cx="43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ructure of SAT data in LD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28T11:06:06Z</dcterms:created>
  <dc:creator>hhshah</dc:creator>
  <dc:description/>
  <dc:language>en-US</dc:language>
  <cp:lastModifiedBy>hhshah</cp:lastModifiedBy>
  <dcterms:modified xsi:type="dcterms:W3CDTF">2000-06-28T11:33:37Z</dcterms:modified>
  <cp:revision>4</cp:revision>
  <dc:subject/>
  <dc:title>No Slide Title</dc:title>
</cp:coreProperties>
</file>