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787-347C-4C3D-9AA7-B451D42D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D62-A882-4A9A-B21C-9187FF02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162-8326-4DEB-AAA4-23701098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795-2EF1-4D03-BFF0-F6D14459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8882-669A-4927-964E-AF0844EC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1485-35CC-4699-B54B-35B32551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7F6C-BA24-4ABD-8518-69843F70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4E9D-8ED0-4C29-83C0-F7ECA805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71CA-69C5-4C6B-AC8D-4DF36569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4606-8888-4DC0-8D36-670579BB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A369-2F58-4161-B4D9-3AB9C8E9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0F1-3093-4BB0-9EB8-25B07618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A4AA-EAB8-4938-9F10-31B6633D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BBED-97AC-409D-A263-905F0A5F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E7B5-4368-49EC-A992-0E02955A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87B7-6205-4041-BDFF-12AC1828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4F60-E80D-44CE-A9EC-0C28A09C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F56-4F6C-4644-B10B-B514F44B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A79-C9A5-4DA9-889D-23436934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DDE-59F8-44E0-A14F-31088FF5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8EB-72AD-414D-B88C-FC2787F8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966-4A42-44D5-B685-58A9D5F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AD3-2F17-4884-B04E-01358F4F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515-5811-4D72-85D7-E3840A4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28195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EAB3-AB54-4CE8-AE4C-9C9CF2670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7621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vi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0EF9-3F95-455D-84F5-0A17D6AC7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0.xml"/><Relationship Id="rId3" Type="http://schemas.openxmlformats.org/officeDocument/2006/relationships/slide" Target="slide17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bcbcb"/>
                </a:solidFill>
                <a:latin typeface="Times New Roman"/>
              </a:rPr>
              <a:t>Database Explorer </a:t>
            </a:r>
            <a:r>
              <a:rPr b="1" sz="3600" spc="-1" strike="noStrike">
                <a:solidFill>
                  <a:srgbClr val="cbcbcb"/>
                </a:solidFill>
                <a:latin typeface="Symbol"/>
                <a:ea typeface="Symbol"/>
              </a:rPr>
              <a:t></a:t>
            </a:r>
            <a:r>
              <a:rPr b="1" sz="3600" spc="-1" strike="noStrike">
                <a:solidFill>
                  <a:srgbClr val="cbcbcb"/>
                </a:solidFill>
                <a:latin typeface="Times New Roman"/>
              </a:rPr>
              <a:t> a Tool to Simplify Accessing Remote Databases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n Gu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800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isor: Raphael Fink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1219320" y="5943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66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reate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943600" cy="5181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53352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reate a new t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943-5F2A-41D6-84F7-DB5D5C94F8B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914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elete a t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drop1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93696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39E-4601-4C9D-92CE-AD2799F0381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edit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5715000" cy="5035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14400" y="6094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dit table schem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8BA-D3CE-4618-9566-0CB489D75CE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sql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791320" cy="4826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8080" y="762120"/>
            <a:ext cx="42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rite your own SQL stat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D16-4B1D-4610-B69B-331D4C64A9B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wrong_account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86400" cy="4718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762120"/>
            <a:ext cx="396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 example of an error mess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847-9B19-4668-A266-A7AC71E220B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ign of the database explorer applic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mplementation of the database explorer applic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sting and testing resul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296280" y="457200"/>
            <a:ext cx="3733920" cy="6309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nstruction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lete sample document icon and replace with working document icons as follow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e document in W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turn to PowerPo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Insert Menu, select Object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Create from Fi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ocate File name in “File”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ke sure “Display as Icon” is check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lect i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Slide Show Menu, Select Action Setting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Object Action” and select “Edi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3962520" y="2286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153280" y="2819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3657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3429000" y="4648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8F6-54C4-4AEE-A65D-591751B60E7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lational Databases and SQL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DBC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wo- and Three-Tier Client/Server Model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ava R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FC/Sw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296280" y="457200"/>
            <a:ext cx="3733920" cy="6309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nstruction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lete sample document icon and replace with working document icons as follow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e document in W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turn to PowerPo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Insert Menu, select Object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Create from Fi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ocate File name in “File”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ke sure “Display as Icon” is check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lect i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Slide Show Menu, Select Action Setting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Object Action” and select “Edi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362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3048120" y="3962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7924680" y="3429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251460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4" action="ppaction://hlinksldjump"/>
          </p:cNvPr>
          <p:cNvSpPr/>
          <p:nvPr/>
        </p:nvSpPr>
        <p:spPr>
          <a:xfrm>
            <a:off x="3124080" y="44956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840-62E7-4767-9E82-8E4DD67A264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DBC (1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DBC API (Java Database Connectivity Application Programming Interfac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at is the JDBC API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atures of the JDBC AP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Limitation of JDBC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Major database vendor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endorse JDB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Oracle, Sybase, IBM, Borland, Informix, Intersoft, Intersolve, Symantic, WebLogic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7848720" y="60199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CB7-B399-4F89-A768-17BA53B4DB2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DBC (2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of the JDBC AP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BMS indepen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(compared to ODB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the most common form of SQL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92 Entry-Level Stand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DBC drivers are vendor-depend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C60-0498-419B-A120-90F03EE89324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DBC (3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Limitations of JDB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JDBC only allows sequential access of data in a ResultSet and does not allow multiple reads of the sam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Results that are not the ResultSet object, such as row counts, must be handled separate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tandard JDBC methods provide no means to determine the number of rows returned by a query or in a ResultS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76960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816-7DAE-4368-8377-CA4C1864B27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4678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The goal of my project is to develop a tool for simplifying access to remote databases that support JDBC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By the use of three-tier client/server model with RMI and JDBC, I overcome some limitations of a two-tier environment and JDBC driver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372600" y="457200"/>
            <a:ext cx="3733920" cy="6309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nstruction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lete sample document icon and replace with working document icons as follow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e document in W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turn to PowerPo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Insert Menu, select Object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Create from Fi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ocate File name in “File”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ke sure “Display as Icon” is check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lect i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Slide Show Menu, Select Action Setting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Object Action” and select “Edi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150-D2F4-496D-8CB2-C7CB012DE56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s (1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-Tier Client/Server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at is the two-tier client/server model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Advantages of a two-tier database access syst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Disadvantages of a two-tier database access syst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-Tier Client/Server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at is the three-tier client/server model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Advantages of a three-tier database access syst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Disadvantages of a three-tier database access syst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5867280" y="2286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6172200" y="3962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7848720" y="5943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30D-B9F3-42EC-B6B4-F7BCC3E432F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s (2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-18504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wo-tier client/server mode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666880"/>
            <a:ext cx="6324840" cy="335304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2819520"/>
            <a:ext cx="2286000" cy="144756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4572000"/>
            <a:ext cx="2057400" cy="1219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971800"/>
            <a:ext cx="1600200" cy="30492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3429000"/>
            <a:ext cx="1600200" cy="30492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886200"/>
            <a:ext cx="160020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724280"/>
            <a:ext cx="160020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5105520"/>
            <a:ext cx="1219320" cy="22860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257800"/>
            <a:ext cx="1219320" cy="22860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5410080"/>
            <a:ext cx="1219320" cy="22860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276720"/>
            <a:ext cx="22860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4197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41148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3733920"/>
            <a:ext cx="22860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4952880"/>
            <a:ext cx="22860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4419720"/>
            <a:ext cx="54864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4419720"/>
            <a:ext cx="5562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411480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3733920"/>
            <a:ext cx="22860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276720"/>
            <a:ext cx="22860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952880"/>
            <a:ext cx="228600" cy="152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44197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2971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3429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DBC Dr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38862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 Inte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4495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2743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5638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38680" y="5410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472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 Inte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CCE-4A42-4D50-9DC0-BA4D2CEE87E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 (3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Advantages of a two-tier database-access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A two-tier access system is less complicated to implem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two-tier architecture maintains a persistent connection between the client and the database, thereby eliminating overhead associated with opening and closing connection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A two-tier system is usually faster than a three-tier implementation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6C8-2B36-4345-A53C-15C1F311794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 (4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Dis</a:t>
            </a:r>
            <a:r>
              <a:rPr b="1" sz="2300" spc="-1" strike="noStrike">
                <a:solidFill>
                  <a:srgbClr val="ffffff"/>
                </a:solidFill>
                <a:latin typeface="Arial"/>
              </a:rPr>
              <a:t>advantages of a two-tier database-access system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Most currently available drivers require that native libraries be loaded on the client machin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Local configuration must be maintained for native code if required by the drive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Applets can only open up connections to the server from which they were downloaded. So there are problems when a two-tier system is used on the internet:  You need to have your database running on the same server as your web serv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7315200" y="6172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A94-379E-469E-8566-F8F66DD85B2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 (5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three-tier client/server mode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66680" y="2286000"/>
            <a:ext cx="6705720" cy="4038480"/>
            <a:chOff x="1066680" y="2286000"/>
            <a:chExt cx="6705720" cy="4038480"/>
          </a:xfrm>
        </p:grpSpPr>
        <p:sp>
          <p:nvSpPr>
            <p:cNvPr id="206" name=""/>
            <p:cNvSpPr/>
            <p:nvPr/>
          </p:nvSpPr>
          <p:spPr>
            <a:xfrm>
              <a:off x="1066680" y="2286000"/>
              <a:ext cx="6705720" cy="4038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28840" y="4413240"/>
              <a:ext cx="4114800" cy="1716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52880" y="2438280"/>
              <a:ext cx="2210040" cy="1717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10080" y="2666880"/>
              <a:ext cx="1301760" cy="258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10080" y="2819520"/>
              <a:ext cx="1301760" cy="258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10080" y="2971800"/>
              <a:ext cx="1301760" cy="257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10080" y="3124080"/>
              <a:ext cx="1301760" cy="257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0080" y="3657600"/>
              <a:ext cx="1359000" cy="257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7920" y="4545000"/>
              <a:ext cx="1893600" cy="939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76400" y="5665680"/>
              <a:ext cx="1436760" cy="268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1920" y="4545000"/>
              <a:ext cx="1438200" cy="268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41920" y="5072040"/>
              <a:ext cx="1438200" cy="47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4875120"/>
              <a:ext cx="18936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17920" y="5138640"/>
              <a:ext cx="18936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60880" y="5467320"/>
              <a:ext cx="261720" cy="201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62680" y="4808520"/>
              <a:ext cx="261720" cy="268200"/>
            </a:xfrm>
            <a:prstGeom prst="upArrow">
              <a:avLst>
                <a:gd name="adj1" fmla="val 50000"/>
                <a:gd name="adj2" fmla="val 2561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3352680"/>
              <a:ext cx="262080" cy="336600"/>
            </a:xfrm>
            <a:prstGeom prst="upArrow">
              <a:avLst>
                <a:gd name="adj1" fmla="val 50000"/>
                <a:gd name="adj2" fmla="val 3210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3880" y="4267080"/>
              <a:ext cx="261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48320" y="4267080"/>
              <a:ext cx="261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3600" y="3886200"/>
              <a:ext cx="262080" cy="384120"/>
            </a:xfrm>
            <a:prstGeom prst="upArrow">
              <a:avLst>
                <a:gd name="adj1" fmla="val 50000"/>
                <a:gd name="adj2" fmla="val 3664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29280" y="4267080"/>
              <a:ext cx="280800" cy="282600"/>
            </a:xfrm>
            <a:prstGeom prst="upArrow">
              <a:avLst>
                <a:gd name="adj1" fmla="val 50000"/>
                <a:gd name="adj2" fmla="val 2516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68640" y="4267080"/>
              <a:ext cx="284040" cy="282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5880" y="3352680"/>
              <a:ext cx="262080" cy="336600"/>
            </a:xfrm>
            <a:prstGeom prst="downArrow">
              <a:avLst>
                <a:gd name="adj1" fmla="val 50000"/>
                <a:gd name="adj2" fmla="val 3210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3886200"/>
              <a:ext cx="262080" cy="384120"/>
            </a:xfrm>
            <a:prstGeom prst="downArrow">
              <a:avLst>
                <a:gd name="adj1" fmla="val 50000"/>
                <a:gd name="adj2" fmla="val 3664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80000" y="4267080"/>
              <a:ext cx="287280" cy="282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80000" y="4808520"/>
              <a:ext cx="258840" cy="268200"/>
            </a:xfrm>
            <a:prstGeom prst="downArrow">
              <a:avLst>
                <a:gd name="adj1" fmla="val 50000"/>
                <a:gd name="adj2" fmla="val 25904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11600" y="5467320"/>
              <a:ext cx="260280" cy="201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3080" y="4267080"/>
              <a:ext cx="303120" cy="282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0103600">
              <a:off x="4422600" y="5724000"/>
              <a:ext cx="733680" cy="196920"/>
            </a:xfrm>
            <a:prstGeom prst="rightArrow">
              <a:avLst>
                <a:gd name="adj1" fmla="val 50000"/>
                <a:gd name="adj2" fmla="val 93144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0034600">
              <a:off x="4226040" y="5528880"/>
              <a:ext cx="531720" cy="200160"/>
            </a:xfrm>
            <a:prstGeom prst="leftArrow">
              <a:avLst>
                <a:gd name="adj1" fmla="val 50000"/>
                <a:gd name="adj2" fmla="val 66412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5000" y="3124080"/>
              <a:ext cx="71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6400" y="3657600"/>
              <a:ext cx="130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etwork Interfa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00200" y="2438280"/>
              <a:ext cx="2133720" cy="17100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28800" y="2666880"/>
              <a:ext cx="1674720" cy="27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60480" y="3143160"/>
              <a:ext cx="1700280" cy="808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60480" y="3408480"/>
              <a:ext cx="1674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60480" y="3672000"/>
              <a:ext cx="1674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73400" y="2895480"/>
              <a:ext cx="241200" cy="311400"/>
            </a:xfrm>
            <a:prstGeom prst="upArrow">
              <a:avLst>
                <a:gd name="adj1" fmla="val 50000"/>
                <a:gd name="adj2" fmla="val 3227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22480" y="2895480"/>
              <a:ext cx="277920" cy="252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2666880"/>
              <a:ext cx="106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2080" y="3143160"/>
              <a:ext cx="106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MI Stub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38320" y="3409920"/>
              <a:ext cx="16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mote Reference Lay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12920" y="3672000"/>
              <a:ext cx="12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port Lay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00200" y="2438280"/>
              <a:ext cx="9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29200" y="2438280"/>
              <a:ext cx="111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tabase Ser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83080" y="5734080"/>
              <a:ext cx="91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xy Ser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03480" y="4611600"/>
              <a:ext cx="1109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port Lay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09800" y="4878360"/>
              <a:ext cx="156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mote Reference Lay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70080" y="5205240"/>
              <a:ext cx="104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MI Skelet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35240" y="566892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JDBC Dri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1880" y="454500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etwork Interfa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41920" y="5072040"/>
              <a:ext cx="14382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tabase Librari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Call Level Interfac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3962520"/>
              <a:ext cx="304560" cy="311040"/>
            </a:xfrm>
            <a:prstGeom prst="downArrow">
              <a:avLst>
                <a:gd name="adj1" fmla="val 50000"/>
                <a:gd name="adj2" fmla="val 25532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33720" y="3962520"/>
              <a:ext cx="304560" cy="311040"/>
            </a:xfrm>
            <a:prstGeom prst="upArrow">
              <a:avLst>
                <a:gd name="adj1" fmla="val 50000"/>
                <a:gd name="adj2" fmla="val 25532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0DF-890C-4C78-823B-96D65BCF9E1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 (6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Advantages of a three-tier database access syst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Clients do not need to have native libraries loaded locall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Drivers can be managed centrall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database server does not have to be directly visible to the Internet. The three-tier model allows us to separate our database server from the web serv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B54-220D-42AD-99A1-DEE6CA7FD1F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 (7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advantages of a three-tier database access  syst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client does not maintain a persistent database connec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A separate proxy server is requir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It is necessary to develop and incorporate a robust and efficient network protocol that can pass data back and forth between the proxy server and th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0773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1C6-E867-4B2D-B974-BF437FE7673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 </a:t>
            </a:r>
            <a:br>
              <a:rPr sz="4200"/>
            </a:b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(remote method invocation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RMI allows an object running in one Java Virtual Machine (VM) to invoke methods on an object running in another Java VM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RMI is a method to build distributed applica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Features of R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Framework of a RMI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Advantages of using RMI to implement a three-tier client/server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7620120" y="5943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381880" y="3505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>
            <a:hlinkClick r:id="rId2" action="ppaction://hlinksldjump"/>
          </p:cNvPr>
          <p:cNvSpPr/>
          <p:nvPr/>
        </p:nvSpPr>
        <p:spPr>
          <a:xfrm>
            <a:off x="3505320" y="4114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4648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5562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711-F39C-44A6-BAB2-3ED64F169690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1" marL="668520" indent="-257040">
              <a:spcBef>
                <a:spcPts val="601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RMI is method for building a distributed object applic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o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f server program and client program in RMI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A typical </a:t>
            </a:r>
            <a:r>
              <a:rPr b="1" sz="2000" spc="-1" strike="noStrike">
                <a:solidFill>
                  <a:srgbClr val="ff3300"/>
                </a:solidFill>
                <a:latin typeface="Arial"/>
              </a:rPr>
              <a:t>server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 application creates some remote objects, makes references to them accessible, and waits for clients to invoke methods on these remote object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A typical </a:t>
            </a:r>
            <a:r>
              <a:rPr b="1" sz="2000" spc="-1" strike="noStrike">
                <a:solidFill>
                  <a:srgbClr val="ff3300"/>
                </a:solidFill>
                <a:latin typeface="Arial"/>
              </a:rPr>
              <a:t>client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 application gets a remote reference to one or more remote objects in the server and then invokes methods on them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sz="2000" spc="-1" strike="noStrike">
                <a:solidFill>
                  <a:srgbClr val="ff3300"/>
                </a:solidFill>
                <a:latin typeface="Arial"/>
              </a:rPr>
              <a:t>RMI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 provides the mechanism by which the server and the client communicate and pass information back and forth.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458200" y="6172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5A1-C84E-44FD-98FD-947794EBFDA3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In a three-tier JDBC application, RMI can be used as a robust and efficient network protocol to pass data back and forth between the proxy server and the client.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The advantages of using RMI to implement a three-tier client/server model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RMI is a part of Java, not a vendor-specific implementation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It has all the advantages of a three-tier architecture described previousl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It maintains a persistent connection with the database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9246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5328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34F-3727-428C-83A0-4358AFABE96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Overview of the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72600" y="457200"/>
            <a:ext cx="3733920" cy="6309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nstruction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lete sample document icon and replace with working document icons as follow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e document in W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turn to PowerPo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Insert Menu, select Object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Create from Fi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ocate File name in “File”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ke sure “Display as Icon” is check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lect i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Slide Show Menu, Select Action Setting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Object Action” and select “Edi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523880"/>
            <a:ext cx="807732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n my project, I built a Java database application named “</a:t>
            </a:r>
            <a:r>
              <a:rPr b="1" sz="2200" spc="-1" strike="noStrike">
                <a:solidFill>
                  <a:srgbClr val="ff3300"/>
                </a:solidFill>
                <a:latin typeface="Arial"/>
              </a:rPr>
              <a:t>Database Explorer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” to simplify accessing remote databases that support JDBC. Database explorer can interact with any relational database, regardless of vendor and type of driver, as long as the database endorses JDBC. I employ Java RMI as a means to build a three-tier client/server environment. In this three-tier environment, a third server acts as a proxy to handle requests from the client and then pass them off to the database server. Database explorer allows multiple users to access a remote database simultaneously. I developed a GUI with JFC/Swing to help the user to perform most database operation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129-3E9B-4C20-B202-F377F648BE63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FC/Swing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JFC (Java Foundation Class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Swing versus AWT (Abstract Window Toolki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ome Swing widgets are analogous to the basic AWT widgets but they have greater capabilities than their corresponding AWT widget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widgets in Swing are lightweight components, rather than peer-based components in AWT.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wing also contains some new widgets such as trees, tables and splitter panes that greatly improve the look and functionality of GUI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9608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82D-3516-48B0-8006-5D9CA14D2023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Design of Database Explorer 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of Database Explorer (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All JDBC drivers are managed centrally on the middle (proxy) server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Multiple users can access a database simultaneously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The client can interact with any database, regardless of the vendor and type of driver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t provides a simple database login procedur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The user can randomly access any single row or column or field of data in a table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296280" y="457200"/>
            <a:ext cx="3733920" cy="6309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nstruction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lete sample document icon and replace with working document icons as follow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e document in W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turn to PowerPo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Insert Menu, select Object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Create from Fi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ocate File name in “File”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ke sure “Display as Icon” is check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lect i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Slide Show Menu, Select Action Setting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Object Action” and select “Edi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43600" y="6172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inu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86600" y="6324480"/>
            <a:ext cx="45720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41F-2538-47F1-8C4D-191EC4F300F6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Design of Database Explorer 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of Database Explorer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t provides dynamic catalog, schema and table information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t automatically converts the user's input into SQL statements and then submits them to the JDBC for execution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t automatically maps the data types between SQL and Java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The client GUI allows database data and tables to be interactively created, fetched, displayed and modified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296280" y="457200"/>
            <a:ext cx="3733920" cy="6309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nstruction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lete sample document icon and replace with working document icons as follow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e document in W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turn to PowerPo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Insert Menu, select Object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Create from Fi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ocate File name in “File”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ke sure “Display as Icon” is check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lect i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Slide Show Menu, Select Action Setting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Object Action” and select “Edi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0010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5B2-B3D4-481C-AEEC-C932F7ACF4A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Implementation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Driver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proxy server chooses and loads the correct JDBC drivers at the application run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Uniform Method for All Data A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UniversalMath1 BT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I designed and implemented a class </a:t>
            </a:r>
            <a:r>
              <a:rPr b="1" sz="2000" spc="-1" strike="noStrike">
                <a:solidFill>
                  <a:srgbClr val="ff3300"/>
                </a:solidFill>
                <a:latin typeface="Courier New"/>
              </a:rPr>
              <a:t>DataTable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 to handle results of all typ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UniversalMath1 BT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All data are placed in an array of vectors and have row and column indices. Each column of data has a certain amount of header information associated with it. In this "two-dimensional array", I can  access any field by referring to its row-column pai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621-7FAA-4155-9A93-4026A6114EB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Implementation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Session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UniversalMath1 BT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o accommodate multiple users, th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UniversalMath1 BT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creates multiple instances of the remote objects.To differentiate which instance is used, I assign a reference ID for each objec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UniversalMath1 BT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ee the picture on the next p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5A8-A5AE-4EFA-9F2D-CB877EEE341C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bcbcb"/>
                </a:solidFill>
                <a:latin typeface="Times New Roman"/>
              </a:rPr>
              <a:t>Implementation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1981080"/>
            <a:ext cx="693396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784520" y="2341440"/>
            <a:ext cx="1509120" cy="1773000"/>
            <a:chOff x="1784520" y="2341440"/>
            <a:chExt cx="1509120" cy="1773000"/>
          </a:xfrm>
        </p:grpSpPr>
        <p:sp>
          <p:nvSpPr>
            <p:cNvPr id="298" name=""/>
            <p:cNvSpPr/>
            <p:nvPr/>
          </p:nvSpPr>
          <p:spPr>
            <a:xfrm>
              <a:off x="1784520" y="2341440"/>
              <a:ext cx="1509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84520" y="3071160"/>
              <a:ext cx="1509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84520" y="3801600"/>
              <a:ext cx="1509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587840" y="3697200"/>
            <a:ext cx="15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ssion Object Inst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87840" y="4010040"/>
            <a:ext cx="15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ssion Object Inst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87840" y="4322880"/>
            <a:ext cx="15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ssion Object Inst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87840" y="4844880"/>
            <a:ext cx="15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ssion Object Inst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5157720"/>
            <a:ext cx="15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ssion Object Inst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57640" y="2446200"/>
            <a:ext cx="204804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57640" y="3489480"/>
            <a:ext cx="2048040" cy="22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1840" y="3697200"/>
            <a:ext cx="161928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71840" y="4010040"/>
            <a:ext cx="16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71840" y="4322880"/>
            <a:ext cx="16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87840" y="369720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71840" y="4844880"/>
            <a:ext cx="161928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71840" y="5157720"/>
            <a:ext cx="16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71840" y="36972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71840" y="48448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71840" y="43228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71840" y="4010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87840" y="484488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71840" y="46353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91120" y="46353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3124080"/>
            <a:ext cx="17258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 Application (SID =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3880" y="3886200"/>
            <a:ext cx="17258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 Application (SID =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65640" y="2550960"/>
            <a:ext cx="2058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xy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bject Bound to RMI Regist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33640" y="2133720"/>
            <a:ext cx="3024360" cy="3962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48520" y="5791320"/>
            <a:ext cx="11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03840" y="5470560"/>
            <a:ext cx="7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D [  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19840" y="3071880"/>
            <a:ext cx="323640" cy="417600"/>
          </a:xfrm>
          <a:prstGeom prst="downArrow">
            <a:avLst>
              <a:gd name="adj1" fmla="val 50000"/>
              <a:gd name="adj2" fmla="val 322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94000" y="2446200"/>
            <a:ext cx="86364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94000" y="2966760"/>
            <a:ext cx="863640" cy="10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94000" y="2863800"/>
            <a:ext cx="86364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2286000"/>
            <a:ext cx="17258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 Application (SID =1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6AA-DD22-4594-A9A8-D0119BBA6DFD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Future improvements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Remove the limitations of the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Test Database Explorer in other RDBMS, such as   Microsoft SQL server, Informix and WebLogic</a:t>
            </a:r>
            <a:r>
              <a:rPr b="0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5410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D1C-CC5F-4677-95B8-1D06BA2FE0CC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Conclusion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n my project, I designed a tool named </a:t>
            </a:r>
            <a:r>
              <a:rPr b="1" sz="2200" spc="-1" strike="noStrike">
                <a:solidFill>
                  <a:srgbClr val="ff3300"/>
                </a:solidFill>
                <a:latin typeface="Arial"/>
              </a:rPr>
              <a:t>Database Explorer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 for simplifying access to any remote databases that support JDBC. I successfully built a three-tier client/server architecture with Java RMI and implemented the tool by the use of Java, JDBC and Java JFC/Swing. At this time, it works for relational database systems Oracle and Sybas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#line of code: 6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#month of work: 5 month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189-EBEA-4955-8C3B-D70C2FAE4E18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Acknowledgements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I would like to express my sincere gratitude to my advisor Dr. Finkel for all the guidance and support he gave 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I also thanks Dr. Jaromczyk and Dr. Jaynes for being my committee memebers.</a:t>
            </a:r>
            <a:r>
              <a:rPr b="1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050-232D-45F8-9199-66CA212AB2CD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Relational Databases and SQL (1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ional Databas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al Model  is proposed by E.F. Codd in 197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A relational database consists of a collection of tables, each of which is assigned a unique name. Each table has a number of columns (attributes) and rows (tuples or record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erminologie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 and Entity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onship and Relationship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lational database currently availab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DFE-DE02-4BB9-845D-48C26DE52D45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990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gin wind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login1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486400" cy="224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7E1-E7F5-4E56-8DD3-A42B3686ED45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Relational Databases and SQL (3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QL (Structured Query Languag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QL is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a specialized language used for the access and management relational databas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SQL89 and SQL9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dded in SQL92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levels of SQL92: SQL92 entry level, SQL92 intermediate level and SQL92 full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main parts of SQL language: DDL and DM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164-A5D0-4FA5-A37D-C15F0C0F4836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Relational Databases and SQL (4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550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DL (Data Definition Language) 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relation schem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re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ind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relation schem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pecify access rights to relations and view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pecify integrity constraint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CREATE TABLE Student (SSN  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CHAR(10), 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   Name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VARCHAR(30),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   Department    VARCHAR(10),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   PRIMARY KEY   (SSN) 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4C8-6C87-42B9-8E36-C818D7DD47A4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Relational Databases and SQL (5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M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Data Manipulation Languag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tuples into th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tuples from th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uples in the database (upda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SSN, 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FROM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Stud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WHERE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Program = 'CS'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5638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917-4943-4919-87BE-62268E2C68CC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 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ments of RMI applic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Locate remote objec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Communicate with remote objec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Load class bytecodes for objects that are passed aroun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An illustration depicts an RMI distributed application that uses the registry to obtain a reference to a remote object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562720" y="5181480"/>
            <a:ext cx="144756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6960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638-4CB8-4614-94CF-0E35AA1488F9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62120" y="533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981080"/>
            <a:ext cx="81536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600" spc="-1" strike="noStrike">
                <a:solidFill>
                  <a:srgbClr val="ffffff"/>
                </a:solidFill>
                <a:latin typeface="Arial"/>
              </a:rPr>
              <a:t>Features of RM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5000"/>
              </a:lnSpc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Dynamic code loa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5000"/>
              </a:lnSpc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RMI distribute application is made up of interfaces and class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5000"/>
              </a:lnSpc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RMI passes a remote </a:t>
            </a:r>
            <a:r>
              <a:rPr b="1" i="1" sz="2200" spc="-1" strike="noStrike">
                <a:solidFill>
                  <a:srgbClr val="ffffff"/>
                </a:solidFill>
                <a:latin typeface="Arial"/>
              </a:rPr>
              <a:t>stub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 (reference) for a remote object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E14-3E03-4061-8FC5-9CD83AACDF39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Dynamic Code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RMI is able to download the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bytecodes</a:t>
            </a:r>
            <a:r>
              <a:rPr b="1" i="1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of an object'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class if the class is not defined in the receiver's virtu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machine. RMI passes objects by their true type, so th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behavior of those objects is not changed when they a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ent to another virtual machine. It allows new types to b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introduced into a remote virtual machine, thus extend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behavior of an application dynamical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20120" y="5562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4FA-5009-42F1-BEB7-1278D74C8C18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work of RMI 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nterface definition for the remote service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mplementation of the remote services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200" spc="-1" strike="noStrike">
                <a:solidFill>
                  <a:srgbClr val="ffffff"/>
                </a:solidFill>
                <a:latin typeface="Arial"/>
              </a:rPr>
              <a:t>Stub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sz="2200" spc="-1" strike="noStrike">
                <a:solidFill>
                  <a:srgbClr val="ffffff"/>
                </a:solidFill>
                <a:latin typeface="Arial"/>
              </a:rPr>
              <a:t>Skeleton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 files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A server to host the remote services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A RMI naming service that allows clients to find the remote services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A client program that needs the remote services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48720" y="5943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354-C4A9-4700-B47C-32E04482C739}" type="slidenum">
              <a:t>46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main2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476760" cy="539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CA8-2DEA-46A3-9200-0943664A7F2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457200" y="457200"/>
            <a:ext cx="8515440" cy="6095880"/>
            <a:chOff x="457200" y="457200"/>
            <a:chExt cx="8515440" cy="6095880"/>
          </a:xfrm>
        </p:grpSpPr>
        <p:pic>
          <p:nvPicPr>
            <p:cNvPr id="104" name="sybase" descr=""/>
            <p:cNvPicPr/>
            <p:nvPr/>
          </p:nvPicPr>
          <p:blipFill>
            <a:blip r:embed="rId1"/>
            <a:stretch/>
          </p:blipFill>
          <p:spPr>
            <a:xfrm>
              <a:off x="1523880" y="1066680"/>
              <a:ext cx="6248520" cy="52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204800">
              <a:off x="762120" y="1295280"/>
              <a:ext cx="838080" cy="228240"/>
            </a:xfrm>
            <a:custGeom>
              <a:avLst/>
              <a:gdLst>
                <a:gd name="textAreaLeft" fmla="*/ 154800 w 838080"/>
                <a:gd name="textAreaRight" fmla="*/ 619920 w 838080"/>
                <a:gd name="textAreaTop" fmla="*/ 30600 h 228240"/>
                <a:gd name="textAreaBottom" fmla="*/ 19764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77" hR="21600" stAng="10800000" swAng="-5400000"/>
                  <a:lnTo>
                    <a:pt x="11987" y="21600"/>
                  </a:lnTo>
                  <a:arcTo wR="7977" hR="21600" stAng="5400000" swAng="-1106018"/>
                  <a:lnTo>
                    <a:pt x="18968" y="16035"/>
                  </a:lnTo>
                  <a:lnTo>
                    <a:pt x="17959" y="0"/>
                  </a:lnTo>
                  <a:lnTo>
                    <a:pt x="11686" y="16035"/>
                  </a:lnTo>
                  <a:lnTo>
                    <a:pt x="13322" y="16035"/>
                  </a:lnTo>
                  <a:arcTo wR="7977" hR="21600" stAng="4293982" swAng="777333"/>
                  <a:lnTo>
                    <a:pt x="9982" y="20907"/>
                  </a:lnTo>
                  <a:arcTo wR="7977" hR="21600" stAng="5728685" swAng="5071315"/>
                  <a:close/>
                </a:path>
                <a:path fill="darkenLess" w="21600" h="21600">
                  <a:moveTo>
                    <a:pt x="0" y="0"/>
                  </a:moveTo>
                  <a:arcTo wR="7977" hR="21600" stAng="10800000" swAng="-5400000"/>
                  <a:lnTo>
                    <a:pt x="11987" y="21600"/>
                  </a:lnTo>
                  <a:arcTo wR="7977" hR="21600" stAng="5400000" swAng="328685"/>
                  <a:lnTo>
                    <a:pt x="9982" y="20907"/>
                  </a:lnTo>
                  <a:arcTo wR="7977" hR="21600" stAng="5728685" swAng="5071315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91120" y="761760"/>
              <a:ext cx="152280" cy="121896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225720 h 1218960"/>
                <a:gd name="textAreaBottom" fmla="*/ 87156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999" stAng="-5400000" swAng="-5400000"/>
                  <a:lnTo>
                    <a:pt x="0" y="11441"/>
                  </a:lnTo>
                  <a:arcTo wR="21600" hR="7999" stAng="10800000" swAng="-2779631"/>
                  <a:lnTo>
                    <a:pt x="14400" y="21143"/>
                  </a:lnTo>
                  <a:lnTo>
                    <a:pt x="21600" y="17719"/>
                  </a:lnTo>
                  <a:lnTo>
                    <a:pt x="14400" y="13381"/>
                  </a:lnTo>
                  <a:lnTo>
                    <a:pt x="14400" y="15541"/>
                  </a:lnTo>
                  <a:arcTo wR="21600" hR="7999" stAng="8020369" swAng="2499777"/>
                  <a:lnTo>
                    <a:pt x="506" y="9720"/>
                  </a:lnTo>
                  <a:arcTo wR="21600" hR="7999" stAng="-10520146" swAng="5120146"/>
                  <a:close/>
                </a:path>
                <a:path fill="darkenLess" w="21600" h="21600">
                  <a:moveTo>
                    <a:pt x="21600" y="0"/>
                  </a:moveTo>
                  <a:arcTo wR="21600" hR="7999" stAng="-5400000" swAng="-5400000"/>
                  <a:lnTo>
                    <a:pt x="0" y="7999"/>
                  </a:lnTo>
                  <a:arcTo wR="21600" hR="7999" stAng="10800000" swAng="-279854"/>
                  <a:lnTo>
                    <a:pt x="506" y="9720"/>
                  </a:lnTo>
                  <a:arcTo wR="21600" hR="7999" stAng="-10520146" swAng="5120146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4132200">
              <a:off x="7543440" y="1447200"/>
              <a:ext cx="228240" cy="175284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334800 h 1752840"/>
                <a:gd name="textAreaBottom" fmla="*/ 12427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251" stAng="-5400000" swAng="5400000"/>
                  <a:lnTo>
                    <a:pt x="21600" y="11190"/>
                  </a:lnTo>
                  <a:arcTo wR="21600" hR="8251" stAng="0" swAng="2832739"/>
                  <a:lnTo>
                    <a:pt x="7200" y="21128"/>
                  </a:lnTo>
                  <a:lnTo>
                    <a:pt x="0" y="17971"/>
                  </a:lnTo>
                  <a:lnTo>
                    <a:pt x="7200" y="13869"/>
                  </a:lnTo>
                  <a:lnTo>
                    <a:pt x="7200" y="16029"/>
                  </a:lnTo>
                  <a:arcTo wR="21600" hR="8251" stAng="2832739" swAng="-2595438"/>
                  <a:lnTo>
                    <a:pt x="21255" y="9720"/>
                  </a:lnTo>
                  <a:arcTo wR="21600" hR="8251" stAng="-237301" swAng="-5162699"/>
                  <a:close/>
                </a:path>
                <a:path fill="darkenLess" w="21600" h="21600">
                  <a:moveTo>
                    <a:pt x="0" y="0"/>
                  </a:moveTo>
                  <a:arcTo wR="21600" hR="8251" stAng="-5400000" swAng="5400000"/>
                  <a:lnTo>
                    <a:pt x="21600" y="11190"/>
                  </a:lnTo>
                  <a:arcTo wR="21600" hR="8251" stAng="0" swAng="-237301"/>
                  <a:lnTo>
                    <a:pt x="21255" y="9720"/>
                  </a:lnTo>
                  <a:arcTo wR="21600" hR="8251" stAng="-237301" swAng="-5162699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2666880"/>
              <a:ext cx="990720" cy="151920"/>
            </a:xfrm>
            <a:custGeom>
              <a:avLst/>
              <a:gdLst>
                <a:gd name="textAreaLeft" fmla="*/ 189000 w 990720"/>
                <a:gd name="textAreaRight" fmla="*/ 702720 w 990720"/>
                <a:gd name="textAreaTop" fmla="*/ 20160 h 151920"/>
                <a:gd name="textAreaBottom" fmla="*/ 131760 h 15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46" hR="21600" stAng="10800000" swAng="-5400000"/>
                  <a:lnTo>
                    <a:pt x="11195" y="21600"/>
                  </a:lnTo>
                  <a:arcTo wR="8246" hR="21600" stAng="5400000" swAng="-2831700"/>
                  <a:lnTo>
                    <a:pt x="21128" y="7200"/>
                  </a:lnTo>
                  <a:lnTo>
                    <a:pt x="17966" y="0"/>
                  </a:lnTo>
                  <a:lnTo>
                    <a:pt x="13859" y="7200"/>
                  </a:lnTo>
                  <a:lnTo>
                    <a:pt x="16019" y="7200"/>
                  </a:lnTo>
                  <a:arcTo wR="8246" hR="21600" stAng="2568300" swAng="2593563"/>
                  <a:lnTo>
                    <a:pt x="9720" y="21252"/>
                  </a:lnTo>
                  <a:arcTo wR="8246" hR="21600" stAng="5638137" swAng="5161863"/>
                  <a:close/>
                </a:path>
                <a:path fill="darkenLess" w="21600" h="21600">
                  <a:moveTo>
                    <a:pt x="0" y="0"/>
                  </a:moveTo>
                  <a:arcTo wR="8246" hR="21600" stAng="10800000" swAng="-5400000"/>
                  <a:lnTo>
                    <a:pt x="11195" y="21600"/>
                  </a:lnTo>
                  <a:arcTo wR="8246" hR="21600" stAng="5400000" swAng="238137"/>
                  <a:lnTo>
                    <a:pt x="9720" y="21252"/>
                  </a:lnTo>
                  <a:arcTo wR="8246" hR="21600" stAng="5638137" swAng="5161863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4400" y="3657240"/>
              <a:ext cx="990720" cy="152280"/>
            </a:xfrm>
            <a:custGeom>
              <a:avLst/>
              <a:gdLst>
                <a:gd name="textAreaLeft" fmla="*/ 189000 w 990720"/>
                <a:gd name="textAreaRight" fmla="*/ 702720 w 99072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46" hR="21600" stAng="10800000" swAng="-5400000"/>
                  <a:lnTo>
                    <a:pt x="11195" y="21600"/>
                  </a:lnTo>
                  <a:arcTo wR="8246" hR="21600" stAng="5400000" swAng="-2831700"/>
                  <a:lnTo>
                    <a:pt x="21128" y="7200"/>
                  </a:lnTo>
                  <a:lnTo>
                    <a:pt x="17966" y="0"/>
                  </a:lnTo>
                  <a:lnTo>
                    <a:pt x="13859" y="7200"/>
                  </a:lnTo>
                  <a:lnTo>
                    <a:pt x="16019" y="7200"/>
                  </a:lnTo>
                  <a:arcTo wR="8246" hR="21600" stAng="2568300" swAng="2593563"/>
                  <a:lnTo>
                    <a:pt x="9720" y="21252"/>
                  </a:lnTo>
                  <a:arcTo wR="8246" hR="21600" stAng="5638137" swAng="5161863"/>
                  <a:close/>
                </a:path>
                <a:path fill="darkenLess" w="21600" h="21600">
                  <a:moveTo>
                    <a:pt x="0" y="0"/>
                  </a:moveTo>
                  <a:arcTo wR="8246" hR="21600" stAng="10800000" swAng="-5400000"/>
                  <a:lnTo>
                    <a:pt x="11195" y="21600"/>
                  </a:lnTo>
                  <a:arcTo wR="8246" hR="21600" stAng="5400000" swAng="238137"/>
                  <a:lnTo>
                    <a:pt x="9720" y="21252"/>
                  </a:lnTo>
                  <a:arcTo wR="8246" hR="21600" stAng="5638137" swAng="5161863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171800">
              <a:off x="990720" y="4571640"/>
              <a:ext cx="1066680" cy="152280"/>
            </a:xfrm>
            <a:custGeom>
              <a:avLst/>
              <a:gdLst>
                <a:gd name="textAreaLeft" fmla="*/ 186480 w 1066680"/>
                <a:gd name="textAreaRight" fmla="*/ 773280 w 106668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238160" y="4114440"/>
              <a:ext cx="1219320" cy="152280"/>
            </a:xfrm>
            <a:custGeom>
              <a:avLst/>
              <a:gdLst>
                <a:gd name="textAreaLeft" fmla="*/ 212760 w 1219320"/>
                <a:gd name="textAreaRight" fmla="*/ 883800 w 121932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3768000">
              <a:off x="2999520" y="5153040"/>
              <a:ext cx="401400" cy="1676160"/>
            </a:xfrm>
            <a:custGeom>
              <a:avLst/>
              <a:gdLst>
                <a:gd name="textAreaLeft" fmla="*/ 53640 w 401400"/>
                <a:gd name="textAreaRight" fmla="*/ 347760 w 401400"/>
                <a:gd name="textAreaTop" fmla="*/ 336240 h 1676160"/>
                <a:gd name="textAreaBottom" fmla="*/ 117216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669" stAng="-5400000" swAng="5400000"/>
                  <a:lnTo>
                    <a:pt x="21600" y="10771"/>
                  </a:lnTo>
                  <a:arcTo wR="21600" hR="8669" stAng="0" swAng="1194690"/>
                  <a:lnTo>
                    <a:pt x="16035" y="18739"/>
                  </a:lnTo>
                  <a:lnTo>
                    <a:pt x="0" y="18389"/>
                  </a:lnTo>
                  <a:lnTo>
                    <a:pt x="16035" y="12317"/>
                  </a:lnTo>
                  <a:lnTo>
                    <a:pt x="16035" y="14477"/>
                  </a:lnTo>
                  <a:arcTo wR="21600" hR="8669" stAng="1194690" swAng="-1026310"/>
                  <a:lnTo>
                    <a:pt x="21441" y="9720"/>
                  </a:lnTo>
                  <a:arcTo wR="21600" hR="8669" stAng="-168380" swAng="-5231620"/>
                  <a:close/>
                </a:path>
                <a:path fill="darkenLess" w="21600" h="21600">
                  <a:moveTo>
                    <a:pt x="0" y="0"/>
                  </a:moveTo>
                  <a:arcTo wR="21600" hR="8669" stAng="-5400000" swAng="5400000"/>
                  <a:lnTo>
                    <a:pt x="21600" y="10771"/>
                  </a:lnTo>
                  <a:arcTo wR="21600" hR="8669" stAng="0" swAng="-168380"/>
                  <a:lnTo>
                    <a:pt x="21441" y="9720"/>
                  </a:lnTo>
                  <a:arcTo wR="21600" hR="8669" stAng="-168380" swAng="-5231620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685800" y="838080"/>
              <a:ext cx="54288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enu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4343400" y="457200"/>
              <a:ext cx="8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oolbar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57200" y="2361960"/>
              <a:ext cx="83808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atalog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533520" y="3352680"/>
              <a:ext cx="86652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hema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685800" y="4114440"/>
              <a:ext cx="6094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ble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3581280" y="5181480"/>
              <a:ext cx="70488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atus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7848720" y="3733560"/>
              <a:ext cx="112392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ata table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8153280" y="1599840"/>
              <a:ext cx="4096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b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5F1-EA09-4917-A481-5FC1067DC9C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earch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172200" cy="507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38080" y="53352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arch the databa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F49-A268-49BC-83B4-6942C99AAE3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nsert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9436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38080" y="6858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sert a new ent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63A-33D2-43E6-B045-347903E2C4E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9320" y="914400"/>
            <a:ext cx="350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pdate a existing entr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update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15000" cy="47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E0C-0002-4E97-8629-0609C8A606E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1:57:32Z</dcterms:created>
  <dc:creator>NT Local User</dc:creator>
  <dc:description/>
  <dc:language>en-US</dc:language>
  <cp:lastModifiedBy>NT Local User</cp:lastModifiedBy>
  <cp:lastPrinted>1996-10-03T09:00:14Z</cp:lastPrinted>
  <dcterms:modified xsi:type="dcterms:W3CDTF">2000-06-15T21:09:06Z</dcterms:modified>
  <cp:revision>55</cp:revision>
  <dc:subject/>
  <dc:title>Database Explorer ¾ a Tool to Simplify Accessing Remote Databases </dc:title>
</cp:coreProperties>
</file>