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72A-C9B5-4F75-9DDB-001E5300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s through applications assigning them to wo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Uses free cpu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stimate cpu load on work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o use serialize method of the binary for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line refers to different instances of the same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schgorin circle to compute [a,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ies are the fundamental units of deployment in the .NET framework. An assembly contains code that the .NET run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 executes.It is a collection of types and resources that form a logical unit of funct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SP page is an HTML page that contains server-side scripts that the Web server processes before sending them to the user's browser. ASP.NET is a part of the Microsoft.NET Framework and has better language support, new controls, XML-based components, better user authentication and is faster than ASP because it uses compiled c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erArr, rest is ev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&gt; 100% probably because the server machine is also a worker in the 2 machine case and so the time taken for communication is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bService is an application that exposes a Web-accessible API, this means that we can invoke this application progra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he web. WebServices are described in an xml language called WSDL. Other web applications communicate with webservices u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, simple object access protocol, which is xml payload on a http request or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197-49FA-4DB3-B2D1-2554C67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E2B-3264-4402-9F57-A6C8A59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A9C-7CBD-4EE5-A73E-127B4BD6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ADB-B60B-4FB9-B9EE-4F42CE71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024-84D7-4B53-8F0A-B5FBAEF6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472-5C88-4545-A15B-669571E2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777-092B-4F2F-80C4-1D5D478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39DE-9EE3-440A-9739-CFC41315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769-D780-4FF9-8953-33DC8E4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7320-EF01-4494-8EEC-B2C665D3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B4A-1770-492E-9837-A20773B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E38-A849-4D22-813D-8BA988A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A6A9-8E81-44B8-A8BC-B0E7E1B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BDB-D541-4700-B8F4-5855511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D8E-C1DE-46C6-AF99-335539B1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7204-07C9-4973-AD2B-C30C3E3B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1A3-A0E1-45CE-A6ED-DB1A516F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E87-EF7E-4C79-B5C1-9DFDE76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52F-D421-4A31-A378-5A5A8C30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BC9-66CB-459B-87E9-E137A948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BA2-E5B8-4F09-A684-CFDD83B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789-C10A-43B1-BE99-1309AB6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199-F69A-40BC-9F90-D213636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672-DF44-4269-AB35-134D14F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249-0FC6-40B3-9619-FF11139881B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960-17C8-4586-8940-1564C0044F2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p/CSAHClient/work/unfinished/eigen.dl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 WebService for distributing comput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Ramya Sethura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Advisor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r. Raphael A. Fink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How would a worker use CSAH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4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machine needs to have the .NET framework installed on 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needs to add the server to the list of trusted sites in Internet Explor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needs to give full trust to trusted sites in the Microsoft.NET configuration wizar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s an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IAppInterf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enerateProblem(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orkerLoadIndicator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pastProblems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etProblem(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problem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urrprobno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tartUp(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cceptResult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hild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showResult()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pplicationD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applicationDLL contains the code for an application clas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instance of the application class represents a chunk of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fter a worker computes results on the application instance, it serializes the application instance to a byte array and sends it to the server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erver deserializes the byte array to an object of the application class and updates its master copy of the application ob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ifecycle of an application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3880"/>
            <a:ext cx="106704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1523880"/>
            <a:ext cx="121932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752480"/>
            <a:ext cx="42674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371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orker asks for work from the server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5840" y="3352680"/>
            <a:ext cx="21337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2971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Work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2004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rver sends problems to work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114800"/>
            <a:ext cx="35053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733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roblem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495680"/>
            <a:ext cx="35053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14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Up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0880" y="3657600"/>
            <a:ext cx="56390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952880"/>
            <a:ext cx="56390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4572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orker returns results to serv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962160" y="5334120"/>
            <a:ext cx="20574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952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Result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1523880"/>
            <a:ext cx="1447920" cy="383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600" y="1981080"/>
            <a:ext cx="8686800" cy="4724640"/>
            <a:chOff x="228600" y="1981080"/>
            <a:chExt cx="8686800" cy="4724640"/>
          </a:xfrm>
        </p:grpSpPr>
        <p:sp>
          <p:nvSpPr>
            <p:cNvPr id="175" name=""/>
            <p:cNvSpPr/>
            <p:nvPr/>
          </p:nvSpPr>
          <p:spPr>
            <a:xfrm>
              <a:off x="3124080" y="2133720"/>
              <a:ext cx="1600200" cy="685800"/>
            </a:xfrm>
            <a:prstGeom prst="ellipse">
              <a:avLst/>
            </a:prstGeom>
            <a:solidFill>
              <a:srgbClr val="c9ddf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2286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2819520"/>
              <a:ext cx="0" cy="38862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198108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 builds the application and uploads it to the server</a:t>
              </a:r>
              <a:r>
                <a:rPr b="0" lang="en-US" sz="1600" spc="-1" strike="noStrike">
                  <a:solidFill>
                    <a:srgbClr val="00cc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1981080"/>
              <a:ext cx="0" cy="47246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1981080"/>
              <a:ext cx="0" cy="45720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39080" y="1981080"/>
              <a:ext cx="0" cy="47246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095880" y="2971800"/>
              <a:ext cx="2743200" cy="0"/>
            </a:xfrm>
            <a:prstGeom prst="line">
              <a:avLst/>
            </a:prstGeom>
            <a:ln w="12600">
              <a:solidFill>
                <a:srgbClr val="cec8b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6095520" y="4800600"/>
            <a:ext cx="26672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105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3809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ustomer checks the status of the application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876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rver returns application instance to customer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5867280"/>
            <a:ext cx="2667240" cy="0"/>
          </a:xfrm>
          <a:prstGeom prst="line">
            <a:avLst/>
          </a:prstGeom>
          <a:ln w="12600">
            <a:solidFill>
              <a:srgbClr val="cec8b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85840" y="6553080"/>
            <a:ext cx="487692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Result(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igenvalues applica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d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within which all eigenvalues li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isect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and find the number of eigen values in each of the intervals, 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2] a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2, b] using Sturm sequences. If an interval has 0 eigenvalues, discard the interv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ed until the difference between the interval’s upper and lower bounds is less than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Epsil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 For example, for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Epsil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= 0.01, a valid interval is [12.90, 12.91]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rschgorin Circle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n {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 -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}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≤i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= Max {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 + |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|}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≤i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… 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=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    .    .  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0     . 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-1  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114800"/>
            <a:ext cx="2819160" cy="2514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4191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91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turm sequenc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characteristic polynomial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= det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equence {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} has special properties that make it a Sturm seque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in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) to be the number of agreements in sign of consecutive members of {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}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number of eigenvalues in the interval,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≤ </a:t>
            </a:r>
            <a:r>
              <a:rPr b="0" lang="el-G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≤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 given by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9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819520"/>
            <a:ext cx="14475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3880" y="5181120"/>
            <a:ext cx="1295280" cy="993240"/>
            <a:chOff x="1523880" y="5181120"/>
            <a:chExt cx="1295280" cy="993240"/>
          </a:xfrm>
        </p:grpSpPr>
        <p:sp>
          <p:nvSpPr>
            <p:cNvPr id="204" name=""/>
            <p:cNvSpPr/>
            <p:nvPr/>
          </p:nvSpPr>
          <p:spPr>
            <a:xfrm>
              <a:off x="1523880" y="518148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61718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819160" y="51811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23880" y="57146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571464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429000" y="10666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276720" y="5181480"/>
            <a:ext cx="2742840" cy="762120"/>
            <a:chOff x="3276720" y="5181480"/>
            <a:chExt cx="2742840" cy="762120"/>
          </a:xfrm>
        </p:grpSpPr>
        <p:sp>
          <p:nvSpPr>
            <p:cNvPr id="211" name=""/>
            <p:cNvSpPr/>
            <p:nvPr/>
          </p:nvSpPr>
          <p:spPr>
            <a:xfrm>
              <a:off x="3276720" y="5181480"/>
              <a:ext cx="2742840" cy="762120"/>
            </a:xfrm>
            <a:prstGeom prst="ellipse">
              <a:avLst/>
            </a:prstGeom>
            <a:solidFill>
              <a:srgbClr val="c9ddf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7320" y="5334120"/>
              <a:ext cx="25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pplica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3657240"/>
            <a:ext cx="1295280" cy="993240"/>
            <a:chOff x="685800" y="3657240"/>
            <a:chExt cx="1295280" cy="993240"/>
          </a:xfrm>
        </p:grpSpPr>
        <p:sp>
          <p:nvSpPr>
            <p:cNvPr id="214" name=""/>
            <p:cNvSpPr/>
            <p:nvPr/>
          </p:nvSpPr>
          <p:spPr>
            <a:xfrm>
              <a:off x="685800" y="365760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800" y="46479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981080" y="365724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41907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419076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81080" y="1218960"/>
            <a:ext cx="1295280" cy="993240"/>
            <a:chOff x="1981080" y="1218960"/>
            <a:chExt cx="1295280" cy="993240"/>
          </a:xfrm>
        </p:grpSpPr>
        <p:sp>
          <p:nvSpPr>
            <p:cNvPr id="220" name=""/>
            <p:cNvSpPr/>
            <p:nvPr/>
          </p:nvSpPr>
          <p:spPr>
            <a:xfrm>
              <a:off x="1981080" y="12193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220968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276360" y="121896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175248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1752480"/>
              <a:ext cx="12952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812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09680" y="3200400"/>
            <a:ext cx="3962520" cy="1752480"/>
            <a:chOff x="2209680" y="3200400"/>
            <a:chExt cx="3962520" cy="1752480"/>
          </a:xfrm>
        </p:grpSpPr>
        <p:sp>
          <p:nvSpPr>
            <p:cNvPr id="227" name=""/>
            <p:cNvSpPr/>
            <p:nvPr/>
          </p:nvSpPr>
          <p:spPr>
            <a:xfrm>
              <a:off x="2209680" y="3200400"/>
              <a:ext cx="2378160" cy="17524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52680" y="36576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generate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209680" y="1600200"/>
            <a:ext cx="4953240" cy="1219320"/>
            <a:chOff x="2209680" y="1600200"/>
            <a:chExt cx="4953240" cy="1219320"/>
          </a:xfrm>
        </p:grpSpPr>
        <p:sp>
          <p:nvSpPr>
            <p:cNvPr id="230" name=""/>
            <p:cNvSpPr/>
            <p:nvPr/>
          </p:nvSpPr>
          <p:spPr>
            <a:xfrm>
              <a:off x="3657600" y="21337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209680" y="1600200"/>
              <a:ext cx="2286000" cy="121932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57040" y="1600200"/>
            <a:ext cx="4572360" cy="1295280"/>
            <a:chOff x="2057040" y="1600200"/>
            <a:chExt cx="4572360" cy="1295280"/>
          </a:xfrm>
        </p:grpSpPr>
        <p:sp>
          <p:nvSpPr>
            <p:cNvPr id="233" name=""/>
            <p:cNvSpPr/>
            <p:nvPr/>
          </p:nvSpPr>
          <p:spPr>
            <a:xfrm flipH="1">
              <a:off x="2057040" y="1600200"/>
              <a:ext cx="2585880" cy="12952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38480" y="19047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keResult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9680" y="3276720"/>
            <a:ext cx="4572000" cy="1676160"/>
            <a:chOff x="2209680" y="3276720"/>
            <a:chExt cx="4572000" cy="1676160"/>
          </a:xfrm>
        </p:grpSpPr>
        <p:sp>
          <p:nvSpPr>
            <p:cNvPr id="236" name=""/>
            <p:cNvSpPr/>
            <p:nvPr/>
          </p:nvSpPr>
          <p:spPr>
            <a:xfrm>
              <a:off x="2209680" y="3276720"/>
              <a:ext cx="1905120" cy="16761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1280" y="4038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cceptResult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76520" y="4876920"/>
            <a:ext cx="1371600" cy="1221480"/>
            <a:chOff x="1676520" y="4876920"/>
            <a:chExt cx="1371600" cy="1221480"/>
          </a:xfrm>
        </p:grpSpPr>
        <p:sp>
          <p:nvSpPr>
            <p:cNvPr id="239" name=""/>
            <p:cNvSpPr/>
            <p:nvPr/>
          </p:nvSpPr>
          <p:spPr>
            <a:xfrm>
              <a:off x="1676520" y="4876920"/>
              <a:ext cx="0" cy="10666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4876920"/>
              <a:ext cx="0" cy="10666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76520" y="5638680"/>
              <a:ext cx="1371600" cy="459720"/>
            </a:xfrm>
            <a:prstGeom prst="rect">
              <a:avLst/>
            </a:prstGeom>
            <a:solidFill>
              <a:srgbClr val="fac16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76520" y="5181480"/>
              <a:ext cx="1371600" cy="459720"/>
            </a:xfrm>
            <a:prstGeom prst="rect">
              <a:avLst/>
            </a:prstGeom>
            <a:solidFill>
              <a:srgbClr val="c3e68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00800" y="26668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09680" y="2666880"/>
            <a:ext cx="4640400" cy="459720"/>
            <a:chOff x="2209680" y="2666880"/>
            <a:chExt cx="4640400" cy="459720"/>
          </a:xfrm>
        </p:grpSpPr>
        <p:sp>
          <p:nvSpPr>
            <p:cNvPr id="245" name=""/>
            <p:cNvSpPr/>
            <p:nvPr/>
          </p:nvSpPr>
          <p:spPr>
            <a:xfrm flipH="1">
              <a:off x="2209680" y="3048120"/>
              <a:ext cx="411480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2666880"/>
              <a:ext cx="45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3880" y="5181120"/>
            <a:ext cx="1295280" cy="993240"/>
            <a:chOff x="1523880" y="5181120"/>
            <a:chExt cx="1295280" cy="993240"/>
          </a:xfrm>
        </p:grpSpPr>
        <p:sp>
          <p:nvSpPr>
            <p:cNvPr id="248" name=""/>
            <p:cNvSpPr/>
            <p:nvPr/>
          </p:nvSpPr>
          <p:spPr>
            <a:xfrm>
              <a:off x="1523880" y="518148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3880" y="61718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819160" y="518112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3880" y="571464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23880" y="5714640"/>
              <a:ext cx="1295280" cy="459720"/>
            </a:xfrm>
            <a:prstGeom prst="rect">
              <a:avLst/>
            </a:prstGeom>
            <a:solidFill>
              <a:srgbClr val="c3e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05520" y="762120"/>
            <a:ext cx="3809880" cy="1526400"/>
            <a:chOff x="5105520" y="762120"/>
            <a:chExt cx="3809880" cy="1526400"/>
          </a:xfrm>
        </p:grpSpPr>
        <p:sp>
          <p:nvSpPr>
            <p:cNvPr id="254" name=""/>
            <p:cNvSpPr/>
            <p:nvPr/>
          </p:nvSpPr>
          <p:spPr>
            <a:xfrm>
              <a:off x="5486400" y="990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tartUp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1295280"/>
              <a:ext cx="3808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762120"/>
              <a:ext cx="1752480" cy="914400"/>
            </a:xfrm>
            <a:prstGeom prst="wedgeEllipseCallout">
              <a:avLst>
                <a:gd name="adj1" fmla="val -58967"/>
                <a:gd name="adj2" fmla="val 38370"/>
              </a:avLst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1066680"/>
              <a:ext cx="0" cy="10670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15400" y="1066680"/>
              <a:ext cx="0" cy="106704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3800" y="1828800"/>
              <a:ext cx="1371600" cy="459720"/>
            </a:xfrm>
            <a:prstGeom prst="rect">
              <a:avLst/>
            </a:prstGeom>
            <a:solidFill>
              <a:srgbClr val="fac16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43800" y="1371600"/>
              <a:ext cx="1371600" cy="459720"/>
            </a:xfrm>
            <a:prstGeom prst="rect">
              <a:avLst/>
            </a:prstGeom>
            <a:solidFill>
              <a:srgbClr val="c3e684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0,2]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629400" y="4495680"/>
            <a:ext cx="15238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38280" y="3276720"/>
            <a:ext cx="5791320" cy="1295280"/>
            <a:chOff x="2438280" y="3276720"/>
            <a:chExt cx="5791320" cy="1295280"/>
          </a:xfrm>
        </p:grpSpPr>
        <p:sp>
          <p:nvSpPr>
            <p:cNvPr id="263" name=""/>
            <p:cNvSpPr/>
            <p:nvPr/>
          </p:nvSpPr>
          <p:spPr>
            <a:xfrm flipH="1" flipV="1">
              <a:off x="2438280" y="3276720"/>
              <a:ext cx="4214880" cy="129528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2428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ndClassForWork(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23880" y="4571640"/>
            <a:ext cx="1295280" cy="993240"/>
            <a:chOff x="1523880" y="4571640"/>
            <a:chExt cx="1295280" cy="993240"/>
          </a:xfrm>
        </p:grpSpPr>
        <p:sp>
          <p:nvSpPr>
            <p:cNvPr id="266" name=""/>
            <p:cNvSpPr/>
            <p:nvPr/>
          </p:nvSpPr>
          <p:spPr>
            <a:xfrm>
              <a:off x="1523880" y="457200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55623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819160" y="4571640"/>
              <a:ext cx="0" cy="990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5105160"/>
              <a:ext cx="129528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5105160"/>
              <a:ext cx="1295280" cy="459720"/>
            </a:xfrm>
            <a:prstGeom prst="rect">
              <a:avLst/>
            </a:prstGeom>
            <a:solidFill>
              <a:srgbClr val="fac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[2,4]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200400" y="5029200"/>
            <a:ext cx="2892600" cy="1143000"/>
          </a:xfrm>
          <a:prstGeom prst="flowChartDocumen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994040" y="3352680"/>
            <a:ext cx="5549760" cy="1600200"/>
            <a:chOff x="1994040" y="3352680"/>
            <a:chExt cx="5549760" cy="1600200"/>
          </a:xfrm>
        </p:grpSpPr>
        <p:sp>
          <p:nvSpPr>
            <p:cNvPr id="273" name=""/>
            <p:cNvSpPr/>
            <p:nvPr/>
          </p:nvSpPr>
          <p:spPr>
            <a:xfrm>
              <a:off x="3241800" y="4191120"/>
              <a:ext cx="43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ave to eigen.status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94040" y="3352680"/>
              <a:ext cx="1881000" cy="160020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Cycle-server at home is a distributed software package that computes the results of embarrassingly parallel and computationally intensive applications by distributing the work that customers upload among workers with idle cpu cyc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695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336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 maintains a redundancy-count list for each problem in the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OutstandingWork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tabl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enever a worker asks for work, the server gives the most deserving unfinished work to the worker; redundant work is not as deserving as original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 generates a nonce for each worker and stores it in the </a:t>
            </a:r>
            <a:r>
              <a:rPr b="0" lang="en-US" sz="3200" spc="-1" strike="noStrike">
                <a:solidFill>
                  <a:srgbClr val="5b5249"/>
                </a:solidFill>
                <a:latin typeface="Courier New"/>
              </a:rPr>
              <a:t>Nonce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ta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omponents of Cycle-server at ho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 ag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orker ag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360" y="15998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fter getting work from the server, the worker agent loads the application assembly from the full path to the assembly, </a:t>
            </a:r>
            <a:r>
              <a:rPr b="0" lang="en-US" sz="2200" spc="-1" strike="noStrike" u="sng">
                <a:solidFill>
                  <a:srgbClr val="b0ae6a"/>
                </a:solidFill>
                <a:uFillTx/>
                <a:latin typeface="Courier New"/>
                <a:hlinkClick r:id="rId1"/>
              </a:rPr>
              <a:t>http://ep/CSAHClient/work/unfinished/eigen.dl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he worker agent initializes the application object by invok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Problem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method on it, giving it the problem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and the current-problem number. In the eigen application, this method also initializes the application instance with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</a:rPr>
              <a:t>lowerBound, upperBound, S_LB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</a:rPr>
              <a:t>S_UB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orker ag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agent invokes the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 on the application ob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r example, in the eigen application,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 bisects the interval [0..4], calculates the number of eigenvalues in each of the intervals, [0..2] and [2..4], and  the worker agent returns these results to the serv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3360" y="182844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server component as an ASP.NET WebServi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customer agent as an ASP.NET applic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worker agent as a Windows Forms Control in Internet Explor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3818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mplementation details – W</a:t>
            </a: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ebServic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410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SAH WebService exposes the following methods to customer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checkDLL(DLL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ddDLLToD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28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DLLName, 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getStatusOfDLL(DLL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ataSe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listDLLs(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-428040">
              <a:lnSpc>
                <a:spcPct val="9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removeDLLFi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DLLName, customerNam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6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3360" y="8380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SAH WebService exposes the following methods to worker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sendClassForWork(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takeResult(CommObjec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akeResultGenerate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ommOjec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CommObjec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server, the customer agent and the worker agent exchange an object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Object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, which has the following field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pulo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blemLi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rAr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Na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Ms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a3d7a"/>
                </a:solidFill>
                <a:latin typeface="Arial"/>
              </a:rPr>
              <a:t>Implementation details – Worker agent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232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classes exist as a DLL, which I include in an object tag on the worker web pag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en a worker loads the web page in his browser, the worker agent downloads the worker-class DLLs to its machi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worker agent creates a new instance of the WebService and calls i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ndClassForWork()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akeResultGenerateWork()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metho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25040"/>
            <a:ext cx="81532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a3d7a"/>
                </a:solidFill>
                <a:latin typeface="Arial"/>
              </a:rPr>
              <a:t>Implementation details - Applications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 implemented the following applications for CSAH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nding the factors of a large number using brute-force searc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nding the eigenvalues of a tridiagonal symmetric real matrix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An example: Eige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86000"/>
            <a:ext cx="198108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209680"/>
            <a:ext cx="152424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952880"/>
            <a:ext cx="1981080" cy="762120"/>
          </a:xfrm>
          <a:prstGeom prst="ellipse">
            <a:avLst/>
          </a:prstGeom>
          <a:solidFill>
            <a:srgbClr val="c9ddf1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3733920"/>
            <a:ext cx="0" cy="11430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1523880" cy="60984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62720" y="2514600"/>
            <a:ext cx="1752480" cy="7621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2408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ustomer upload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to the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4191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verifie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store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in its work directo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orker asks for work from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006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9528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00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72428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selects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sends it to the work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76920" y="3733560"/>
            <a:ext cx="0" cy="11430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2590920"/>
            <a:ext cx="1752840" cy="76176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Tests and Resul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990720" y="1371600"/>
          <a:ext cx="75438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543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5562720"/>
            <a:ext cx="784872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fficiency = </a:t>
            </a:r>
            <a:r>
              <a:rPr b="0" lang="en-US" sz="1800" spc="-1" strike="noStrike" u="sng">
                <a:solidFill>
                  <a:srgbClr val="5b5249"/>
                </a:solidFill>
                <a:uFillTx/>
                <a:latin typeface="Arial"/>
              </a:rPr>
              <a:t>Time taken for one machi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n *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Time taken for</a:t>
            </a:r>
            <a:r>
              <a:rPr b="0" i="1" lang="en-US" sz="1800" spc="-1" strike="noStrike">
                <a:solidFill>
                  <a:srgbClr val="5b5249"/>
                </a:solidFill>
                <a:latin typeface="Arial"/>
              </a:rPr>
              <a:t> n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machin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fficiency of a single machine = 100%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5800" y="228600"/>
          <a:ext cx="8001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3360" y="19810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protect worker machines from malicious applicationD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modify the worker agent to allow implementations of problems like finding the </a:t>
            </a: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 Schur numb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need to improve the scheduling policy to allocate customer work fairl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Enhancem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32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n enhancement to CSAH would be to develop an economic model wherein customers can pay for services and workers can be paid for doing wor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can prioritize work based on specific criteri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 can give more details on the work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objective of Cycle-server at home is to distribute work that customers upload, to machines with idle cpu cyc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6200" y="3048120"/>
            <a:ext cx="144792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209680"/>
            <a:ext cx="198108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209680"/>
            <a:ext cx="1524240" cy="58140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76920"/>
            <a:ext cx="2057400" cy="761760"/>
          </a:xfrm>
          <a:prstGeom prst="ellipse">
            <a:avLst/>
          </a:prstGeom>
          <a:solidFill>
            <a:srgbClr val="c9ddf1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029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657600"/>
            <a:ext cx="0" cy="12193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86400" y="2438280"/>
            <a:ext cx="1905120" cy="83844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767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ustomer checks status of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dl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43440"/>
            <a:ext cx="4038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returns the eigen application to the custom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27672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orker calculates results and returns it to the serv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800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9528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63068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erver updates its copy of the eigen application and stores it in </a:t>
            </a:r>
            <a:r>
              <a:rPr b="0" lang="en-US" sz="2800" spc="-1" strike="noStrike">
                <a:solidFill>
                  <a:srgbClr val="5b5249"/>
                </a:solidFill>
                <a:latin typeface="Courier New"/>
                <a:ea typeface="Arial"/>
              </a:rPr>
              <a:t>eigen.stat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666880"/>
            <a:ext cx="1295280" cy="4572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3657240"/>
            <a:ext cx="0" cy="121932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514600" y="2819520"/>
            <a:ext cx="1295280" cy="457200"/>
          </a:xfrm>
          <a:prstGeom prst="line">
            <a:avLst/>
          </a:prstGeom>
          <a:ln w="12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Example continued</a:t>
            </a:r>
            <a:r>
              <a:rPr b="0" lang="en-US" sz="2400" spc="-1" strike="noStrike">
                <a:solidFill>
                  <a:srgbClr val="2a3d7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ustomer web pa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orker 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eb</a:t>
            </a: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 pa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838080"/>
          <a:ext cx="807696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Definition of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ebServi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AppInterf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orker agen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ustomer ag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ow would a customer use CSAH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7040" y="1523520"/>
            <a:ext cx="861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establishes an account with CSAH using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writes a C# or VB.NET program, such that it implements IAppInterface, and compiles it to a DL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uploads this applicationDLL to the server using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 customer can check the status of the applicationDLLs by clicking the </a:t>
            </a:r>
            <a:r>
              <a:rPr b="0" i="1" lang="en-US" sz="3200" spc="-1" strike="noStrike">
                <a:solidFill>
                  <a:srgbClr val="5b5249"/>
                </a:solidFill>
                <a:latin typeface="Arial"/>
              </a:rPr>
              <a:t>Get Status 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utton on the customer web p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23:13:43Z</dcterms:created>
  <dc:creator> </dc:creator>
  <dc:description/>
  <dc:language>en-US</dc:language>
  <cp:lastModifiedBy> </cp:lastModifiedBy>
  <dcterms:modified xsi:type="dcterms:W3CDTF">2003-12-03T04:59:08Z</dcterms:modified>
  <cp:revision>915</cp:revision>
  <dc:subject/>
  <dc:title>Cycle-server at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