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1.wmf" ContentType="image/x-wmf"/>
  <Override PartName="/ppt/media/image10.gif" ContentType="image/gif"/>
  <Override PartName="/ppt/media/image6.png" ContentType="image/png"/>
  <Override PartName="/ppt/media/image29.png" ContentType="image/png"/>
  <Override PartName="/ppt/media/image31.png" ContentType="image/png"/>
  <Override PartName="/ppt/media/image7.png" ContentType="image/png"/>
  <Override PartName="/ppt/media/image8.png" ContentType="image/png"/>
  <Override PartName="/ppt/media/image24.gif" ContentType="image/gif"/>
  <Override PartName="/ppt/media/image1.gif" ContentType="image/gif"/>
  <Override PartName="/ppt/media/image4.png" ContentType="image/png"/>
  <Override PartName="/ppt/media/image27.png" ContentType="image/png"/>
  <Override PartName="/ppt/media/image11.gif" ContentType="image/gif"/>
  <Override PartName="/ppt/media/image13.gif" ContentType="image/gif"/>
  <Override PartName="/ppt/media/image30.png" ContentType="image/png"/>
  <Override PartName="/ppt/media/image9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gif" ContentType="image/gif"/>
  <Override PartName="/ppt/media/image22.gif" ContentType="image/gif"/>
  <Override PartName="/ppt/media/image15.png" ContentType="image/png"/>
  <Override PartName="/ppt/media/image12.wmf" ContentType="image/x-wm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30E-AFFC-41C7-90F2-9A5CB261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7FA-DB45-4022-AF51-23E27D7F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EBF-5876-49DA-8A7B-FE80F63A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E86-ACA7-4984-B311-BC68E014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9548-2B50-4D0C-8BDE-1841EA7A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0228-2ECC-48A5-BB70-D403EA80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D664-ED1A-4BE3-B0B2-F034B2EE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DC17-5DFE-4D2D-82AC-0F1F4685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9144-EBCF-4771-9096-F5323777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2F9F-7507-4E95-AA64-464CBC7F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0C1B-7D69-4F08-AB5D-F3E2A0E0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4D5-226B-45EE-90E8-34EEB18E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6C20-6AC9-4EF6-84C0-53E2FDA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EDDC-57AF-4D8B-AB2C-BCAC7130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F56C-EDB5-44C3-8251-542077BA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77E1-E911-447D-9290-95FC6EF8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D857-313A-4E3B-97D7-335CE0AC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3B2-43F2-42D4-81D4-7576AA54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110-A698-4875-8D03-008F32C5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74D-20FD-41F1-8B05-32099158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F21-D1DB-4D02-8D2B-7A57A85F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4A5-35CD-46B4-95B2-3D4B4EBD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B93-23B8-40ED-8A82-06C32FC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D63-AC66-4655-A0A7-BCFA4891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4C43-001F-4012-A65A-DD7BF10F68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B9EC-5EE2-4636-BE5B-21073C4C7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6FE2-F11B-4310-B9F8-F5187364082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2F94-30BC-4912-B35D-DED7A23C6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7.gi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9.gif"/><Relationship Id="rId1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3.gif"/><Relationship Id="rId7" Type="http://schemas.openxmlformats.org/officeDocument/2006/relationships/image" Target="../media/image22.gi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gi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4.gi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gi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fckeditor.net/" TargetMode="Externa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wm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AjaxWordPro: A Multi User Word Processor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360" y="312408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Kausalya Madhusudhan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isor: Dr. Raphael Fin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artment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ty of Kentuc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5638680"/>
            <a:ext cx="259092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cision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Scripting Languages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-Side Scripting Language: 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P: Hypertext Pre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– oriented scripting language runs on the 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functions to communicate with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ent-Side Scripting Language: JavaSc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jax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data to and accepts data from the server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HttpRequ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Document Object Model properti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the content of a web page on the f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a web programmer to create interactive web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228600" y="0"/>
            <a:ext cx="14479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mplementation Decis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CKe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HTML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axWordPro presents editable documents to users via FCK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FCK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browser 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e plug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forma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, Copy, Paste as Plain Text, Undo and R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-click context-menu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Sql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tores the user and fil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2"/>
          <a:stretch/>
        </p:blipFill>
        <p:spPr>
          <a:xfrm>
            <a:off x="228600" y="152280"/>
            <a:ext cx="817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Overall Design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oncurrency Control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lusive (write) locks are used for concurrenc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s write privilege on areas of shared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needs to hold a lock over the data before e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king Granularity: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need to acquire the lock on the paragraph before editing the contents of the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of a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e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e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228600" y="228600"/>
            <a:ext cx="1190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Client – Server Communication of AjaxWordPro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828800"/>
            <a:ext cx="1143000" cy="2428920"/>
          </a:xfrm>
          <a:prstGeom prst="rect">
            <a:avLst/>
          </a:prstGeom>
          <a:solidFill>
            <a:srgbClr val="ffd05b">
              <a:alpha val="38000"/>
            </a:srgbClr>
          </a:solidFill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38360" y="1801800"/>
            <a:ext cx="2971800" cy="2428920"/>
          </a:xfrm>
          <a:prstGeom prst="rect">
            <a:avLst/>
          </a:prstGeom>
          <a:solidFill>
            <a:srgbClr val="ffd05b">
              <a:alpha val="39000"/>
            </a:srgbClr>
          </a:solidFill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2408400"/>
            <a:ext cx="914400" cy="40464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 input from 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3219480"/>
            <a:ext cx="914400" cy="40464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pdate web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81760" y="2111400"/>
            <a:ext cx="914400" cy="1012680"/>
          </a:xfrm>
          <a:prstGeom prst="rect">
            <a:avLst/>
          </a:prstGeom>
          <a:solidFill>
            <a:srgbClr val="ff00ff">
              <a:alpha val="4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-side scrip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3421080"/>
            <a:ext cx="685800" cy="709560"/>
          </a:xfrm>
          <a:prstGeom prst="flowChartMagneticDisk">
            <a:avLst/>
          </a:prstGeom>
          <a:solidFill>
            <a:srgbClr val="008000">
              <a:alpha val="82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230832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30832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261144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638320" y="291456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66880" y="342108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230832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61144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311796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553080" y="311796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397160"/>
            <a:ext cx="1257480" cy="303120"/>
          </a:xfrm>
          <a:prstGeom prst="rect">
            <a:avLst/>
          </a:prstGeom>
          <a:solidFill>
            <a:srgbClr val="ffd05b">
              <a:alpha val="1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1397160"/>
            <a:ext cx="800280" cy="303120"/>
          </a:xfrm>
          <a:prstGeom prst="rect">
            <a:avLst/>
          </a:prstGeom>
          <a:solidFill>
            <a:srgbClr val="ffd05b">
              <a:alpha val="1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4419720"/>
            <a:ext cx="4229280" cy="303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3: Client - Server Architecture of AjaxWord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00400" y="2104920"/>
            <a:ext cx="2781000" cy="1924200"/>
            <a:chOff x="3200400" y="2104920"/>
            <a:chExt cx="2781000" cy="1924200"/>
          </a:xfrm>
        </p:grpSpPr>
        <p:sp>
          <p:nvSpPr>
            <p:cNvPr id="235" name=""/>
            <p:cNvSpPr/>
            <p:nvPr/>
          </p:nvSpPr>
          <p:spPr>
            <a:xfrm>
              <a:off x="3200400" y="2104920"/>
              <a:ext cx="2558520" cy="1924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11640" y="2362320"/>
              <a:ext cx="1112400" cy="552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reate a new XMLHttpRequest inst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1640" y="3117960"/>
              <a:ext cx="1112400" cy="5061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xtract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69000" y="2308320"/>
              <a:ext cx="778320" cy="303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o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24040" y="2611440"/>
              <a:ext cx="155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424040" y="3117960"/>
              <a:ext cx="155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57760" y="3219480"/>
              <a:ext cx="778680" cy="303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spo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666880" y="2514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2971800"/>
            <a:ext cx="152280" cy="152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876920"/>
            <a:ext cx="91440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Client creates the XMLHttpRequest instance and packages the request and sends to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5257800"/>
            <a:ext cx="91440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ent sets up a callback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5638680"/>
            <a:ext cx="91440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erver generates the response and send it to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019920"/>
            <a:ext cx="91440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Client executes the callback function, consults the response and reflects the changes to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remove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69288E-006 L 0.05 1.69288E-006 E">
                                      <p:cBhvr>
                                        <p:cTn id="335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69288E-006 L 0.15834 1.69288E-006 E">
                                      <p:cBhvr>
                                        <p:cTn id="357" dur="3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500"/>
                            </p:stCondLst>
                            <p:childTnLst>
                              <p:par>
                                <p:cTn id="35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9500"/>
                            </p:stCondLst>
                            <p:childTnLst>
                              <p:par>
                                <p:cTn id="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01157 C 0.00243 0.06129 0.00677 0.11124 0.01128 0.11772 C 0.0158 0.12419 0.02361 0.06823 0.02569 0.05019 C 0.02777 0.03215 0.02448 0.01642 0.0243 0.00972 E">
                                      <p:cBhvr>
                                        <p:cTn id="368" dur="3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3506E-006 L -0.2 -4.13506E-006 E">
                                      <p:cBhvr>
                                        <p:cTn id="384" dur="3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6725E-006 L -0.05 3.36725E-006 E">
                                      <p:cBhvr>
                                        <p:cTn id="400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40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ent – Server Oper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connection with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user request, send a post submission 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periodic basis, fetch the lock status of the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e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the requested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 the contents of a open file i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track of locks acquired by th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locks if there is no conflict with existing 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 locks, if they are held for more than one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2"/>
          <a:stretch/>
        </p:blipFill>
        <p:spPr>
          <a:xfrm>
            <a:off x="304920" y="228600"/>
            <a:ext cx="12952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Paragraph Color Cod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04920" y="1371600"/>
          <a:ext cx="8839080" cy="4853160"/>
        </p:xfrm>
        <a:graphic>
          <a:graphicData uri="http://schemas.openxmlformats.org/drawingml/2006/table">
            <a:tbl>
              <a:tblPr/>
              <a:tblGrid>
                <a:gridCol w="2133720"/>
                <a:gridCol w="3352680"/>
                <a:gridCol w="33526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Font 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is not locked by any u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aragraph is available for lock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locked by this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This paragraph is  locked by this cli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is inconsistent with the content in data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is paragraph is an inconsistent on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other 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locked by other us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is paragraph is locked by other u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Accessing a shared documen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620120" y="2590920"/>
            <a:ext cx="1172880" cy="1218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2193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1676520"/>
            <a:ext cx="5334120" cy="228600"/>
          </a:xfrm>
          <a:prstGeom prst="leftRightArrow">
            <a:avLst>
              <a:gd name="adj1" fmla="val 50000"/>
              <a:gd name="adj2" fmla="val 46451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2743200"/>
            <a:ext cx="5334120" cy="228600"/>
          </a:xfrm>
          <a:prstGeom prst="leftRightArrow">
            <a:avLst>
              <a:gd name="adj1" fmla="val 50000"/>
              <a:gd name="adj2" fmla="val 46451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1295280"/>
            <a:ext cx="518148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Send user’s identity t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1981080"/>
            <a:ext cx="50292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rver authenticates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2362320"/>
            <a:ext cx="50292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Client requests a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2971800"/>
            <a:ext cx="510516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Server sends the contents of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276720"/>
            <a:ext cx="510516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Server sends the information about locked areas and its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3886200"/>
            <a:ext cx="50292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Client starts editing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4495680"/>
            <a:ext cx="502920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Server checks whether the paragraph is locked by any other user, if so deny the request of this client, else grants the 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5791320"/>
            <a:ext cx="5181480" cy="228600"/>
          </a:xfrm>
          <a:prstGeom prst="leftRightArrow">
            <a:avLst>
              <a:gd name="adj1" fmla="val 50000"/>
              <a:gd name="adj2" fmla="val 451224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5410080"/>
            <a:ext cx="495324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 Client requests lock status every 5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6172200"/>
            <a:ext cx="510516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 Server responds the current lock status of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4191120"/>
            <a:ext cx="5181480" cy="228600"/>
          </a:xfrm>
          <a:prstGeom prst="leftRightArrow">
            <a:avLst>
              <a:gd name="adj1" fmla="val 50000"/>
              <a:gd name="adj2" fmla="val 451224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41911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5791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0554 L 0.57084 -0.00555 E">
                                      <p:cBhvr>
                                        <p:cTn id="42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500"/>
                            </p:stCondLst>
                            <p:childTnLst>
                              <p:par>
                                <p:cTn id="42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500"/>
                            </p:stCondLst>
                            <p:childTnLst>
                              <p:par>
                                <p:cTn id="446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8.67052E-007 L 0.55833 -0.01109 E">
                                      <p:cBhvr>
                                        <p:cTn id="447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6667 8.67052E-007 E">
                                      <p:cBhvr>
                                        <p:cTn id="478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000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8.67052E-007 L 0.55 0.01109 E">
                                      <p:cBhvr>
                                        <p:cTn id="506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500"/>
                            </p:stCondLst>
                            <p:childTnLst>
                              <p:par>
                                <p:cTn id="5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Accessing a shared documen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58000" y="2438280"/>
            <a:ext cx="1708200" cy="1778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1600200" cy="1258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81952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16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2209680"/>
            <a:ext cx="3962160" cy="152640"/>
          </a:xfrm>
          <a:prstGeom prst="leftRightArrow">
            <a:avLst>
              <a:gd name="adj1" fmla="val 50000"/>
              <a:gd name="adj2" fmla="val 51674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19520" y="1523880"/>
            <a:ext cx="388620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User requests to fetch current contents of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2438280"/>
            <a:ext cx="380988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rver sends the updated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2971800"/>
            <a:ext cx="388620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User explicitly requests a lock (CTRL + F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3809880"/>
            <a:ext cx="381024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Server grants/denies the lock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4343400"/>
            <a:ext cx="381024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User requests to release his lock (CTRL + F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5257800"/>
            <a:ext cx="381024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Server releases the 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6095880"/>
            <a:ext cx="3962160" cy="152640"/>
          </a:xfrm>
          <a:prstGeom prst="leftRightArrow">
            <a:avLst>
              <a:gd name="adj1" fmla="val 50000"/>
              <a:gd name="adj2" fmla="val 51674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95480" y="5638680"/>
            <a:ext cx="358164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User requests to lock entir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6400800"/>
            <a:ext cx="38862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 Server grants/denies the lock 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3581280"/>
            <a:ext cx="3962160" cy="152640"/>
          </a:xfrm>
          <a:prstGeom prst="leftRightArrow">
            <a:avLst>
              <a:gd name="adj1" fmla="val 50000"/>
              <a:gd name="adj2" fmla="val 51674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4952880"/>
            <a:ext cx="3962160" cy="152640"/>
          </a:xfrm>
          <a:prstGeom prst="leftRightArrow">
            <a:avLst>
              <a:gd name="adj1" fmla="val 50000"/>
              <a:gd name="adj2" fmla="val 51674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ecure transmission of dat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Socket Layer (SSL) protoc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ransmit sensitive information to th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L in web server supports “https”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SSL certificate is created for 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L Certificate uses SHA-1 with RSA encryption algorithm for encryption and server authent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380880" y="380880"/>
            <a:ext cx="1371600" cy="9432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762120" y="3962520"/>
            <a:ext cx="1600200" cy="1258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8"/>
          <a:stretch/>
        </p:blipFill>
        <p:spPr>
          <a:xfrm>
            <a:off x="6400800" y="3733920"/>
            <a:ext cx="1708200" cy="17780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14600" y="34290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352680"/>
            <a:ext cx="7632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3657600"/>
            <a:ext cx="3657600" cy="2286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33670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Client requests a secur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191120"/>
            <a:ext cx="3733920" cy="228600"/>
          </a:xfrm>
          <a:prstGeom prst="leftArrow">
            <a:avLst>
              <a:gd name="adj1" fmla="val 50000"/>
              <a:gd name="adj2" fmla="val 40834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3809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rver sends (SSL Certificate, 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7120" y="556272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 Encryption Ke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s- public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- private k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3352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5562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- Symmetr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9092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Client sends message M: encrypt( S, K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5334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Server decrypts  M using ‘Ke’ and identifies ‘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5105520"/>
            <a:ext cx="3733920" cy="304560"/>
          </a:xfrm>
          <a:prstGeom prst="rightArrow">
            <a:avLst>
              <a:gd name="adj1" fmla="val 50000"/>
              <a:gd name="adj2" fmla="val 306501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and server securely communicates using ‘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6019920"/>
            <a:ext cx="3962520" cy="228600"/>
          </a:xfrm>
          <a:prstGeom prst="leftRightArrow">
            <a:avLst>
              <a:gd name="adj1" fmla="val 50000"/>
              <a:gd name="adj2" fmla="val 34507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creen shot - AjaxWordPr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122480"/>
            <a:ext cx="72007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Database Tabl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-File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ocking a paragraph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ing a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219320" y="2989440"/>
            <a:ext cx="1218960" cy="12016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7696080" y="320040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7724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674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243828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hen the user either starts editing a paragraph or presses CTRL+F1 , the client sends (para_id , MD5(para_contents)) t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365760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rver grants the lock if, contents of the paragraph are consistent and the paragraph is not locked by any other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67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Releasing a loc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lock is 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releases any lock before acquiring the new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816120" y="2379600"/>
            <a:ext cx="1218960" cy="12016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7292880" y="259092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36920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636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642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68400" y="1905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40000" y="1828800"/>
            <a:ext cx="4648320" cy="119124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hen the user either shifts the cursor from the locked paragraph to a new paragraph or presses CTRL+F2 , the client sends (para_id, para_contents) to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40000" y="350352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releases the lock and update the contents of the paragraph in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63680" y="312408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87720" y="304812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69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500"/>
                            </p:stCondLst>
                            <p:childTnLst>
                              <p:par>
                                <p:cTn id="70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Opening a document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09480" y="3294000"/>
            <a:ext cx="1219320" cy="1201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445520" y="342900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521480" y="2895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209680" y="1981080"/>
            <a:ext cx="5400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64280" y="1981080"/>
            <a:ext cx="2232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0000" y="1828800"/>
            <a:ext cx="4648320" cy="119124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user types in the name of the file, the client requests the server for the list of file names of this user which matches the typed-in file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40000" y="350352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responds with a list of file names whose prefix matches the typed-in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63680" y="312408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87720" y="304812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560376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09680" y="5527800"/>
            <a:ext cx="15264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62320" y="4267080"/>
            <a:ext cx="457200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The client displays the list of file names to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4876920"/>
            <a:ext cx="457200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The client sends a request to fetch the contents of the select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5943600"/>
            <a:ext cx="44197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The server responds with the contents and lock information to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72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500"/>
                            </p:stCondLst>
                            <p:childTnLst>
                              <p:par>
                                <p:cTn id="7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0"/>
                            </p:stCondLst>
                            <p:childTnLst>
                              <p:par>
                                <p:cTn id="7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500"/>
                            </p:stCondLst>
                            <p:childTnLst>
                              <p:par>
                                <p:cTn id="7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75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6500"/>
                            </p:stCondLst>
                            <p:childTnLst>
                              <p:par>
                                <p:cTn id="759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76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Creating a new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219320" y="2989440"/>
            <a:ext cx="1218960" cy="12016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77724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674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243828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sends a request to create a new file with the specifi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388620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If the file does not exist before, the server creates a new file for the client; otherwise the server sends a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696080" y="2971800"/>
            <a:ext cx="1166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784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500"/>
                            </p:stCondLst>
                            <p:childTnLst>
                              <p:par>
                                <p:cTn id="78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Sharing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762120" y="2989440"/>
            <a:ext cx="1218960" cy="12016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315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243828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sends a request to share an existing file with the specifi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388620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If the file does not exist before, the server sends an error; otherwise it sends the contents of shared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337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238880" y="2971800"/>
            <a:ext cx="1166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808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500"/>
                            </p:stCondLst>
                            <p:childTnLst>
                              <p:par>
                                <p:cTn id="81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Saving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62120" y="2989440"/>
            <a:ext cx="1218960" cy="12016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7315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102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14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243828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sends the contents of its locked paragraph  to save in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3886200"/>
            <a:ext cx="4648320" cy="119124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updates the content of the paragraph in the database, and updates the timestamp in the lock information table for this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96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238880" y="2971800"/>
            <a:ext cx="1166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83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4500"/>
                            </p:stCondLst>
                            <p:childTnLst>
                              <p:par>
                                <p:cTn id="83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Closing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62120" y="2989440"/>
            <a:ext cx="1218960" cy="12016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7315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096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243828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requests the server to modify the user_file information table in the database, to set the in_use field value to 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0" y="3886200"/>
            <a:ext cx="4724280" cy="119124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updates the in_use field of the user_file information table of database and removes the lock records from the lock information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7238880" y="2971800"/>
            <a:ext cx="1166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856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Deleting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762120" y="2989440"/>
            <a:ext cx="1218960" cy="12016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7315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243828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requests the server to delete the specifi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3886200"/>
            <a:ext cx="4724280" cy="20142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 checks the user_file information table for other users of that file. If the client is the only one accessing the file, then the server deletes the entry from user_file information table and delete the entry from file information table; otherwise delete only the entry from user_file information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1337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7238880" y="2971800"/>
            <a:ext cx="1166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880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8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way of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e-mails, blogs and instant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to edit plain text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 contain control characters for text 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6629400" y="1523880"/>
            <a:ext cx="1228680" cy="103824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6248520" y="5334120"/>
            <a:ext cx="2590560" cy="914400"/>
            <a:chOff x="6248520" y="5334120"/>
            <a:chExt cx="2590560" cy="914400"/>
          </a:xfrm>
        </p:grpSpPr>
        <p:sp>
          <p:nvSpPr>
            <p:cNvPr id="130" name=""/>
            <p:cNvSpPr/>
            <p:nvPr/>
          </p:nvSpPr>
          <p:spPr>
            <a:xfrm>
              <a:off x="62485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9"/>
            <a:stretch/>
          </p:blipFill>
          <p:spPr>
            <a:xfrm>
              <a:off x="6553080" y="5410440"/>
              <a:ext cx="76176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0"/>
            <a:stretch/>
          </p:blipFill>
          <p:spPr>
            <a:xfrm>
              <a:off x="7772400" y="5486760"/>
              <a:ext cx="685440" cy="63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6477120" y="3581280"/>
            <a:ext cx="1933560" cy="868320"/>
            <a:chOff x="6477120" y="3581280"/>
            <a:chExt cx="1933560" cy="868320"/>
          </a:xfrm>
        </p:grpSpPr>
        <p:pic>
          <p:nvPicPr>
            <p:cNvPr id="134" name="" descr=""/>
            <p:cNvPicPr/>
            <p:nvPr/>
          </p:nvPicPr>
          <p:blipFill>
            <a:blip r:embed="rId11"/>
            <a:stretch/>
          </p:blipFill>
          <p:spPr>
            <a:xfrm>
              <a:off x="6477120" y="3581280"/>
              <a:ext cx="89064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2"/>
            <a:stretch/>
          </p:blipFill>
          <p:spPr>
            <a:xfrm>
              <a:off x="7543800" y="3581280"/>
              <a:ext cx="866880" cy="8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Searching for a word in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ient prompts the user to enter the search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ient searches the full text and highlights the specifi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Spell check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609480" y="3294000"/>
            <a:ext cx="1219320" cy="12016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7445520" y="342900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521480" y="2895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209680" y="1981080"/>
            <a:ext cx="5400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64280" y="1981080"/>
            <a:ext cx="2232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190512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lient sends a request to identify the misspelled words in the locked paragraph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320040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responds with a list of misspelled words in the locked paragraph, the client highlights the misspelled words for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63680" y="281952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87720" y="27432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560376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5527800"/>
            <a:ext cx="15264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4191120"/>
            <a:ext cx="4572000" cy="119124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User can right-click on misspelled word to get a list of suggestions. The client sends the misspelled word for a list of suggestions to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5943600"/>
            <a:ext cx="44197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The server responds with the list of suggestions for the misspelled 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90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500"/>
                            </p:stCondLst>
                            <p:childTnLst>
                              <p:par>
                                <p:cTn id="90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500"/>
                            </p:stCondLst>
                            <p:childTnLst>
                              <p:par>
                                <p:cTn id="9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500"/>
                            </p:stCondLst>
                            <p:childTnLst>
                              <p:par>
                                <p:cTn id="935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936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4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Fetching the content of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816120" y="2913120"/>
            <a:ext cx="1218960" cy="12016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292880" y="312408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736920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63680" y="2514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64280" y="2514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68400" y="2438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0" y="251460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sends a request to the server by sending the MD5(file_contents) to fetch the current contents of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403704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responds with the current contents only if the local copy of the contents are different from the true copy in the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63680" y="36576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87720" y="358128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5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960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4500"/>
                            </p:stCondLst>
                            <p:childTnLst>
                              <p:par>
                                <p:cTn id="96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6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Plugins in FCKeditor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hand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 hand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 de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 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ion for misspelled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Undo and redo operations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allows the user to undo and redo actions performed within a locked paragrap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aragraph is released by a user, the user cannot undo or redo the actions performed in the released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Screen shots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User authenticat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4864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User is authenticate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5486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Auto-suggestion of file nam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File opened by the user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486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Multi-user word processor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781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multi-user word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e to work on same document to get things efficiently and quick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ware application to perform collaborative t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user word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several people to edit a document at the same time using different compu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7391520" y="4038480"/>
            <a:ext cx="1523880" cy="1455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7086600" y="1752480"/>
            <a:ext cx="1828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ock acquired by the user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486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Displays an inconsistent paragraph and another locked paragraph.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86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Perform a full text search for the specified word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562040" y="1600200"/>
            <a:ext cx="6018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earch word is highlighte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4864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Future wor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an forcibly release the locks of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the user to perform cut, paste, backspace and delete operations across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the users to lock a part of a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text formatting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mechanisms to register new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 for exporting and importing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structured file namespace rather than flat name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AjaxWordPro provides a multi-user web-based word processor allowing multiple users to edit the same document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Referenc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1145880"/>
            <a:ext cx="845820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S. Xia, D. Sun, C. Sun, D Chen, and H. F. Shen: "Leveraging single-user applications for multi-user collaboration: the CoWord approach,"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ceedings of ACM 2004 Conference on Computer Supported Cooperative Work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v 6-10, Chicago, IL USA, pp.162-17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hengzheng Sun, Steven Xia, David Sun, David Chen, Haifeng Shen, Wentong Cai: "Transparent adaptation of single-user applications for multi-user real-time collaboration,"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M Transactions on Computer-Human Interaction,  V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13, No. 4, December 2006, pp.531-5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achin Mullick, Raphael Finkel: “MUSE: A Collaborative Editor”, a Master’s project done in the Department of Computer Science, University of Kentucky, November 5th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“FCKeditor Documentation”, http://docs.fckeditor.net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Jesse James Garrett: “Ajax: A New Approach to Web Applications”,  February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Greg Murray: "Asynchronous JavaScript Technology and XML (Ajax) With the Java Platform", June 9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“FCKeditor, the text editor for an internet”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fckeditor.net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 Schlichter, U. Borghoff, “Concurrency Control for Multiuser Editors”, ACM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  An Operating System Vade Mecum. Second Edition, Raphael A. Finkel, Prentice Hall, 1988. Pages 270-272. ftp://ftp.cs.uky.edu/cs/manuscripts/vade.mecum.2.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Questions ?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AjaxWordPr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user web-based word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JavaScript and XML (AJAX)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s exchange small amount of data with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s are updated without reloading the entire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2438640" cy="1316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057400" y="5334120"/>
            <a:ext cx="1143000" cy="944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19920" y="5334120"/>
            <a:ext cx="761760" cy="91440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5715000"/>
            <a:ext cx="2819520" cy="152280"/>
          </a:xfrm>
          <a:prstGeom prst="leftRightArrow">
            <a:avLst>
              <a:gd name="adj1" fmla="val 50000"/>
              <a:gd name="adj2" fmla="val 368593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5638680"/>
            <a:ext cx="152280" cy="228600"/>
          </a:xfrm>
          <a:prstGeom prst="ellipse">
            <a:avLst/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895480" y="5181480"/>
            <a:ext cx="304920" cy="457200"/>
          </a:xfrm>
          <a:prstGeom prst="pie">
            <a:avLst/>
          </a:prstGeom>
          <a:solidFill>
            <a:srgbClr val="ff0000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6281E-007 L 0.28333 -4.16281E-007 E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Features of AjaxWordPr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76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ok and feel of single-user word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ic formatting tools to edit the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lay the presence of other users accessing the same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 the user to edit the content by holding a lock on the editing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tch the content changes of the document synchron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 the lock changes of the document asynchron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ggest plausible replacements for misspelled wo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ll – text word search on the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ure transmission of data from the client to th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5181480" y="1828800"/>
            <a:ext cx="35578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Implementation Decisions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mplementation Decis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JavaScript and XML (AJA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dynamic web pages on the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nchronous data retrieval using XMLHttp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Web applic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095200" y="3657600"/>
            <a:ext cx="5143320" cy="2628360"/>
            <a:chOff x="2095200" y="3657600"/>
            <a:chExt cx="5143320" cy="2628360"/>
          </a:xfrm>
        </p:grpSpPr>
        <p:sp>
          <p:nvSpPr>
            <p:cNvPr id="156" name=""/>
            <p:cNvSpPr/>
            <p:nvPr/>
          </p:nvSpPr>
          <p:spPr>
            <a:xfrm>
              <a:off x="5524200" y="3657600"/>
              <a:ext cx="1714320" cy="217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53160" y="3955320"/>
              <a:ext cx="1257120" cy="388080"/>
            </a:xfrm>
            <a:prstGeom prst="rect">
              <a:avLst/>
            </a:prstGeom>
            <a:solidFill>
              <a:srgbClr val="ff6600">
                <a:alpha val="74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53160" y="4572000"/>
              <a:ext cx="1257120" cy="685800"/>
            </a:xfrm>
            <a:prstGeom prst="rect">
              <a:avLst/>
            </a:prstGeom>
            <a:solidFill>
              <a:srgbClr val="00ffff">
                <a:alpha val="7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store, backend process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4343400"/>
              <a:ext cx="3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667560" y="4457160"/>
              <a:ext cx="360" cy="1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667560" y="434340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667560" y="4457160"/>
              <a:ext cx="360" cy="1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667560" y="434340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38200" y="397512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38200" y="3886200"/>
              <a:ext cx="228600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38200" y="411480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4228200"/>
              <a:ext cx="1714320" cy="36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ML + CSS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81000" y="5943960"/>
              <a:ext cx="3543480" cy="342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gure 1: Classic web application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95200" y="3771720"/>
              <a:ext cx="1142640" cy="34272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1911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4343400"/>
            <a:ext cx="1371600" cy="34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ser (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24167 1.70213E-006 E">
                                      <p:cBhvr>
                                        <p:cTn id="162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12303E-007 C 0.00452 0.05065 0.00903 0.10153 0.02014 0.10823 C 0.03125 0.11494 0.05921 0.05805 0.06667 0.0407 C 0.07414 0.02336 0.06528 0.00995 0.06511 0.00393 E">
                                      <p:cBhvr>
                                        <p:cTn id="173" dur="3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9556E-007 L -0.24167 -7.9556E-007 E">
                                      <p:cBhvr>
                                        <p:cTn id="184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cisions</a:t>
            </a:r>
            <a:br>
              <a:rPr sz="4000"/>
            </a:br>
            <a:r>
              <a:rPr b="1" lang="en-US" sz="3600" spc="-1" strike="noStrike">
                <a:solidFill>
                  <a:srgbClr val="a26d18"/>
                </a:solidFill>
                <a:latin typeface="Times New Roman"/>
              </a:rPr>
              <a:t>AJAX Web Application Model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3848040"/>
            <a:ext cx="1371600" cy="34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6840" y="3276720"/>
            <a:ext cx="14860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3505320"/>
            <a:ext cx="1257120" cy="457200"/>
          </a:xfrm>
          <a:prstGeom prst="rect">
            <a:avLst/>
          </a:prstGeom>
          <a:solidFill>
            <a:srgbClr val="ff6600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or XM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4191120"/>
            <a:ext cx="1257120" cy="685800"/>
          </a:xfrm>
          <a:prstGeom prst="rect">
            <a:avLst/>
          </a:prstGeom>
          <a:solidFill>
            <a:srgbClr val="00ffff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, backend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962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705720" y="4076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705720" y="3962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705720" y="4076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705720" y="3962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59424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276360" y="4419720"/>
            <a:ext cx="240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191120"/>
            <a:ext cx="240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19440" y="4533840"/>
            <a:ext cx="1714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3276720"/>
            <a:ext cx="1371600" cy="194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19240" y="3390840"/>
            <a:ext cx="1143000" cy="343080"/>
          </a:xfrm>
          <a:prstGeom prst="rect">
            <a:avLst/>
          </a:prstGeom>
          <a:solidFill>
            <a:srgbClr val="ff6600">
              <a:alpha val="76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9240" y="464832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73392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77" idx="2"/>
            <a:endCxn id="179" idx="0"/>
          </p:cNvCxnSpPr>
          <p:nvPr/>
        </p:nvCxnSpPr>
        <p:spPr>
          <a:xfrm flipH="1">
            <a:off x="6133680" y="3981240"/>
            <a:ext cx="28656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2247840" y="3848040"/>
            <a:ext cx="228600" cy="22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7840" y="373392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3848040"/>
            <a:ext cx="228600" cy="22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819520" y="373392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19240" y="4076640"/>
            <a:ext cx="1143000" cy="343080"/>
          </a:xfrm>
          <a:prstGeom prst="rect">
            <a:avLst/>
          </a:prstGeom>
          <a:solidFill>
            <a:srgbClr val="33cccc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jax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71880" y="5562720"/>
            <a:ext cx="434340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JavaScrip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HTML + C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: Ajax Web applic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71880" y="3619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00880" y="4381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5040" y="407664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295280"/>
            <a:ext cx="77724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dvantage of classic web application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request sent to the server halt the us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jax Web applic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jax Engine”- Allows user interaction to happen asynchronously, independent of communication with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4191120"/>
            <a:ext cx="152640" cy="152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32562E-007 L 0 0.05551 E">
                                      <p:cBhvr>
                                        <p:cTn id="19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5551 L 0.10833 0.06661 E">
                                      <p:cBhvr>
                                        <p:cTn id="20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61887E-006 L -3.33333E-006 -0.0777 E">
                                      <p:cBhvr>
                                        <p:cTn id="206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0.06661 L 0.375 0.06661 E">
                                      <p:cBhvr>
                                        <p:cTn id="213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5 0.06661 L 0.425 0.0333 E">
                                      <p:cBhvr>
                                        <p:cTn id="216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 0.03331 C 0.42066 0.07956 0.41632 0.12604 0.42639 0.13368 C 0.43646 0.14131 0.47604 0.09413 0.48576 0.07956 C 0.49548 0.06499 0.48455 0.05343 0.48437 0.04672 E">
                                      <p:cBhvr>
                                        <p:cTn id="219" dur="3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028E-008 L -0.25834 -0.0111 E">
                                      <p:cBhvr>
                                        <p:cTn id="229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32562E-007 L 0.00834 -0.05551 E">
                                      <p:cBhvr>
                                        <p:cTn id="24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54:09Z</dcterms:created>
  <dc:creator>kausalya</dc:creator>
  <dc:description/>
  <dc:language>en-US</dc:language>
  <cp:lastModifiedBy>kausalya</cp:lastModifiedBy>
  <dcterms:modified xsi:type="dcterms:W3CDTF">2008-04-25T14:32:00Z</dcterms:modified>
  <cp:revision>217</cp:revision>
  <dc:subject/>
  <dc:title>AjaxWordPro: A Multi User Word Processor</dc:title>
</cp:coreProperties>
</file>